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C41-5884-4718-9A04-6174ED31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B87-3F20-4B8B-A9C7-F1D3AC48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A77-F734-4CB9-B64E-424368FF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A3B-4A51-4386-91C4-7F587250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89E-FB90-4C1A-A786-C10A0420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24D-E8CE-4C3E-B348-5085E1D2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441-2D42-4242-BB61-8C98FB7A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D52-0EF0-4F85-90A8-A857390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61F-DC88-4ED9-ADC5-8CE1BF8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91F-8D52-4170-94C5-D7B0E14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E8A-C992-4391-9458-66163B1D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9A2-2DE3-47C4-A4A9-539F072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D87F-1836-4162-9BD5-DA8302845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1748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606600"/>
          <a:ext cx="85233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6600"/>
                    <a:ext cx="85233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2560" y="630360"/>
          <a:ext cx="764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64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606600"/>
          <a:ext cx="8091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91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3640" y="593640"/>
          <a:ext cx="83502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93640"/>
                    <a:ext cx="83502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386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386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06520"/>
          <a:ext cx="8324640" cy="63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06520"/>
                    <a:ext cx="832464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5-05-10T16:27:20Z</cp:lastPrinted>
  <dcterms:modified xsi:type="dcterms:W3CDTF">2005-05-10T17:16:04Z</dcterms:modified>
  <cp:revision>3</cp:revision>
  <dc:subject/>
  <dc:title>Sin título de diapositiva</dc:title>
</cp:coreProperties>
</file>