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EDE-D4A3-43A6-A061-285F07C8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AF2-62B5-4F1A-BBF5-97360FB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D2F-0EED-427B-AA8D-9205804F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571-2614-472F-8207-6779869F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290-6D03-4DCB-A0F1-B40A1000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5EC-322F-40F9-8471-3DA1331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49C-B33D-4651-899F-75E4767C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94-E866-44CF-86A9-9EEFC3A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CE0-BE1F-4DDF-BCF4-9BCBBE7F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28E-6BCE-4736-8BBE-6D4D65B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48C-D2F2-4926-A476-D72DBB0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DEE-E30F-4569-9479-287330C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8C56-DE19-41C5-954D-D50C09558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1748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606600"/>
          <a:ext cx="85233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6600"/>
                    <a:ext cx="85233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2560" y="630360"/>
          <a:ext cx="764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64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606600"/>
          <a:ext cx="8091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91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3640" y="593640"/>
          <a:ext cx="83502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93640"/>
                    <a:ext cx="83502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386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386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06520"/>
          <a:ext cx="8324640" cy="63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06520"/>
                    <a:ext cx="832464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5-05-10T16:27:20Z</cp:lastPrinted>
  <dcterms:modified xsi:type="dcterms:W3CDTF">2005-05-10T17:16:04Z</dcterms:modified>
  <cp:revision>3</cp:revision>
  <dc:subject/>
  <dc:title>Sin título de diapositiva</dc:title>
</cp:coreProperties>
</file>