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5010-FDBE-4655-89F7-8E8A2AF60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9118-FC1A-4539-B9BF-ECC1258E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E623-0E57-4519-A6E0-B0D6DB97B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7622-5734-44E4-887F-ECF67B8E8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FEAA-0E92-4115-92BB-7F582675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F20C-DE9D-4A9B-869F-0077B8BC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B321-F766-45AC-A78B-EB95A2F8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DC9D-FA1E-45A1-93E6-6100D77F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3382-F1BF-48E3-A75E-3895D8F7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8332-3664-442A-8FE8-62EBAAD8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DA7C-7CB5-45E1-BB6A-530E901B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4FC3-8578-4CCB-8CD4-328C692B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818B-C519-4B5E-BA1C-B691FDC6E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54200" y="606600"/>
          <a:ext cx="808992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06600"/>
                    <a:ext cx="808992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17480" y="544680"/>
          <a:ext cx="813924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544680"/>
                    <a:ext cx="813924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57200" y="606600"/>
          <a:ext cx="8523360" cy="513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6600"/>
                    <a:ext cx="85233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952560" y="630360"/>
          <a:ext cx="764532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630360"/>
                    <a:ext cx="764532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06600" y="642960"/>
          <a:ext cx="8188200" cy="55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42960"/>
                    <a:ext cx="8188200" cy="55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82760" y="593640"/>
          <a:ext cx="8497800" cy="586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93640"/>
                    <a:ext cx="8497800" cy="58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803160" y="606600"/>
          <a:ext cx="809172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606600"/>
                    <a:ext cx="809172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19120" y="469800"/>
          <a:ext cx="8474040" cy="612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69800"/>
                    <a:ext cx="8474040" cy="61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53920" y="531720"/>
          <a:ext cx="7718760" cy="586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718760" cy="58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93640" y="593640"/>
          <a:ext cx="8350200" cy="601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93640"/>
                    <a:ext cx="8350200" cy="60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92280" y="568440"/>
          <a:ext cx="8226360" cy="60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68440"/>
                    <a:ext cx="8226360" cy="60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06600" y="619200"/>
          <a:ext cx="832464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19200"/>
                    <a:ext cx="832464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93640" y="557280"/>
          <a:ext cx="838692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57280"/>
                    <a:ext cx="838692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42960" y="593640"/>
          <a:ext cx="791676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93640"/>
                    <a:ext cx="791676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06600" y="506520"/>
          <a:ext cx="8324640" cy="639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06520"/>
                    <a:ext cx="8324640" cy="63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3:33:49Z</dcterms:created>
  <dc:creator>jalvarez</dc:creator>
  <dc:description/>
  <dc:language>en-US</dc:language>
  <cp:lastModifiedBy>jalvarez</cp:lastModifiedBy>
  <cp:lastPrinted>2005-05-10T16:27:20Z</cp:lastPrinted>
  <dcterms:modified xsi:type="dcterms:W3CDTF">2005-05-10T17:16:04Z</dcterms:modified>
  <cp:revision>3</cp:revision>
  <dc:subject/>
  <dc:title>Sin título de diapositiva</dc:title>
</cp:coreProperties>
</file>