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C5B-BF6A-42BA-953F-8AEB5265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B74-76D2-4167-967A-7523AC66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F77-079E-469D-9A8A-14D3FD9C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021-CDEC-4E20-963B-37A9FD8A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A6E-6C9C-4F2B-BD4B-68A177E1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D6D-0B6B-432E-902E-431F5DEC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592-3007-4D5E-8FDC-0BDC32DC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5F4-3505-426B-839D-82368745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C9B-2553-4380-A9D7-28B2A647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BBE-7FB9-4C3C-998E-1E4DC9E1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765-4C1E-46A0-AF04-66C6B40A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A4B-E549-418F-9A45-BF6DAB66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C862-9D90-4570-B1DD-22EC69292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5560" y="557280"/>
          <a:ext cx="826308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57280"/>
                    <a:ext cx="826308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46040" y="593640"/>
          <a:ext cx="8534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93640"/>
                    <a:ext cx="8534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506520"/>
          <a:ext cx="85359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5359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92000" y="506520"/>
          <a:ext cx="78296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06520"/>
                    <a:ext cx="78296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54200" y="581040"/>
          <a:ext cx="812772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812772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581040"/>
          <a:ext cx="812772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81277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15840" y="655560"/>
          <a:ext cx="786636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8663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557280"/>
          <a:ext cx="794196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57280"/>
                    <a:ext cx="794196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419720" y="243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0080" y="619200"/>
          <a:ext cx="78170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19200"/>
                    <a:ext cx="78170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04880" y="544680"/>
          <a:ext cx="813924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44680"/>
                    <a:ext cx="813924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681120"/>
          <a:ext cx="806580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81120"/>
                    <a:ext cx="806580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19120"/>
          <a:ext cx="825156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19120"/>
                    <a:ext cx="825156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92000" y="655560"/>
          <a:ext cx="80647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55560"/>
                    <a:ext cx="80647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495360"/>
          <a:ext cx="8412120" cy="76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95360"/>
                    <a:ext cx="8412120" cy="76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5:49:18Z</dcterms:created>
  <dc:creator>jalvarez</dc:creator>
  <dc:description/>
  <dc:language>en-US</dc:language>
  <cp:lastModifiedBy>jalvarez</cp:lastModifiedBy>
  <cp:lastPrinted>2005-05-08T21:29:46Z</cp:lastPrinted>
  <dcterms:modified xsi:type="dcterms:W3CDTF">2005-05-12T14:38:39Z</dcterms:modified>
  <cp:revision>9</cp:revision>
  <dc:subject/>
  <dc:title>Sin título de diapositiva</dc:title>
</cp:coreProperties>
</file>