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A94-F698-4889-A8EF-EA96AD02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B9D-0C02-4194-8C07-2CD5A9B7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144-A333-4D97-959F-7BCC032D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9C9-564C-4145-92A0-58D8B6D6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905-6C68-4A6A-81C4-BADA60C4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F28-04C0-42DB-9773-4230869A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C6F-BD75-4766-B317-EF9FBDB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9D4-AB4C-48C7-9C58-23F14D02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C73-EE52-435D-BE94-C1EE6800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9F9-6249-4013-88F5-70CC608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34A-8E2C-4B2A-BD62-89020A8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0AF-BE1E-426F-8D47-08D6E01A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E3B7-036D-4A01-BA7C-2057AEAD0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5560" y="557280"/>
          <a:ext cx="826308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6308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46040" y="593640"/>
          <a:ext cx="8534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93640"/>
                    <a:ext cx="8534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535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535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92000" y="506520"/>
          <a:ext cx="78296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06520"/>
                    <a:ext cx="78296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54200" y="581040"/>
          <a:ext cx="8127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581040"/>
          <a:ext cx="81277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15840" y="655560"/>
          <a:ext cx="78663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8663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557280"/>
          <a:ext cx="794196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57280"/>
                    <a:ext cx="794196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4197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0080" y="61920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1920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544680"/>
          <a:ext cx="813924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13924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681120"/>
          <a:ext cx="806580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81120"/>
                    <a:ext cx="806580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19120"/>
          <a:ext cx="825156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25156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92000" y="655560"/>
          <a:ext cx="80647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55560"/>
                    <a:ext cx="80647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495360"/>
          <a:ext cx="8412120" cy="76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95360"/>
                    <a:ext cx="8412120" cy="76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5:49:18Z</dcterms:created>
  <dc:creator>jalvarez</dc:creator>
  <dc:description/>
  <dc:language>en-US</dc:language>
  <cp:lastModifiedBy>jalvarez</cp:lastModifiedBy>
  <cp:lastPrinted>2005-05-08T21:29:46Z</cp:lastPrinted>
  <dcterms:modified xsi:type="dcterms:W3CDTF">2005-05-12T14:38:39Z</dcterms:modified>
  <cp:revision>9</cp:revision>
  <dc:subject/>
  <dc:title>Sin título de diapositiva</dc:title>
</cp:coreProperties>
</file>