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F785-EDCB-4274-932D-71B39B285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DD2C-D72A-44F4-A7E0-5A2E31FCF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FB1F-0C8D-40DF-8013-6CB46ED83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E375-EA14-450E-9E2A-37C5C7930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B585-68AE-413A-B47D-F0E3D2EEB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4006-BDA5-4B2D-80B9-949A702E0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0264-A8E4-496A-AA10-8E9336DAC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1F9F-E2AA-4F83-8363-661561B83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786C-407E-46E2-9169-A0B55D7B1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810F-0685-4DC8-9C43-C982BD253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8903-FDB1-49CF-83B5-E28526CC5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AB99-852E-4AB8-BB81-5266C1EDA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12D05-E005-4FE8-A62E-DE9FD82AFA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55560" y="557280"/>
          <a:ext cx="8263080" cy="607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557280"/>
                    <a:ext cx="8263080" cy="60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46040" y="593640"/>
          <a:ext cx="8534520" cy="570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593640"/>
                    <a:ext cx="853452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06520" y="506520"/>
          <a:ext cx="8535960" cy="600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520" y="506520"/>
                    <a:ext cx="8535960" cy="60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792000" y="506520"/>
          <a:ext cx="7829640" cy="582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" y="506520"/>
                    <a:ext cx="7829640" cy="58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754200" y="581040"/>
          <a:ext cx="8127720" cy="60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581040"/>
                    <a:ext cx="812772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754200" y="581040"/>
          <a:ext cx="8127720" cy="5877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581040"/>
                    <a:ext cx="8127720" cy="58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915840" y="655560"/>
          <a:ext cx="7866360" cy="591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655560"/>
                    <a:ext cx="7866360" cy="59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878040" y="557280"/>
          <a:ext cx="7941960" cy="6616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557280"/>
                    <a:ext cx="7941960" cy="661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4419720" y="24382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730080" y="619200"/>
          <a:ext cx="7817040" cy="587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080" y="619200"/>
                    <a:ext cx="7817040" cy="58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704880" y="544680"/>
          <a:ext cx="8139240" cy="6035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544680"/>
                    <a:ext cx="8139240" cy="60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30360" y="681120"/>
          <a:ext cx="8065800" cy="541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681120"/>
                    <a:ext cx="8065800" cy="54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54200" y="519120"/>
          <a:ext cx="8251560" cy="5629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519120"/>
                    <a:ext cx="8251560" cy="562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792000" y="655560"/>
          <a:ext cx="8064720" cy="6370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" y="655560"/>
                    <a:ext cx="8064720" cy="637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878040" y="544680"/>
          <a:ext cx="7459560" cy="566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544680"/>
                    <a:ext cx="7459560" cy="56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619200" y="469800"/>
          <a:ext cx="8324640" cy="62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469800"/>
                    <a:ext cx="832464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544680" y="495360"/>
          <a:ext cx="8412120" cy="7681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495360"/>
                    <a:ext cx="8412120" cy="768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6T15:49:18Z</dcterms:created>
  <dc:creator>jalvarez</dc:creator>
  <dc:description/>
  <dc:language>en-US</dc:language>
  <cp:lastModifiedBy>jalvarez</cp:lastModifiedBy>
  <cp:lastPrinted>2005-05-08T21:29:46Z</cp:lastPrinted>
  <dcterms:modified xsi:type="dcterms:W3CDTF">2005-05-12T14:38:39Z</dcterms:modified>
  <cp:revision>9</cp:revision>
  <dc:subject/>
  <dc:title>Sin título de diapositiva</dc:title>
</cp:coreProperties>
</file>