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612-A3D7-4E89-AA96-9AE05147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66E-AA9C-43CA-8FDB-B08BAD30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384-1FB4-443C-ABBB-938C6171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D85-1D8A-4796-8CFC-322A7C4E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D24-9B6D-45BA-8BF2-0FA6010A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D6A-1D3E-4423-B14A-466C9A17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661-7FA4-4AA2-BF2B-A9A190CF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60B-7C85-4199-920E-85F5D042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27F-A79A-45EC-9BC1-1DAF7F9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859-740F-40FA-AE91-A4E4B37D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568-DB3D-4F46-A4B0-C3490937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B1B-1FFE-4EF2-8ACD-C57A267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1A0F-C4FD-415E-A362-717FD5D26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5560" y="557280"/>
          <a:ext cx="826308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6308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46040" y="593640"/>
          <a:ext cx="8534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93640"/>
                    <a:ext cx="8534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535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535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92000" y="506520"/>
          <a:ext cx="78296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06520"/>
                    <a:ext cx="78296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54200" y="581040"/>
          <a:ext cx="8127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581040"/>
          <a:ext cx="81277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15840" y="655560"/>
          <a:ext cx="78663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8663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557280"/>
          <a:ext cx="794196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57280"/>
                    <a:ext cx="794196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4197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0080" y="61920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1920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544680"/>
          <a:ext cx="813924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13924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681120"/>
          <a:ext cx="806580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81120"/>
                    <a:ext cx="806580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19120"/>
          <a:ext cx="825156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25156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92000" y="655560"/>
          <a:ext cx="80647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55560"/>
                    <a:ext cx="80647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495360"/>
          <a:ext cx="8412120" cy="76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95360"/>
                    <a:ext cx="8412120" cy="76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5:49:18Z</dcterms:created>
  <dc:creator>jalvarez</dc:creator>
  <dc:description/>
  <dc:language>en-US</dc:language>
  <cp:lastModifiedBy>jalvarez</cp:lastModifiedBy>
  <cp:lastPrinted>2005-05-08T21:29:46Z</cp:lastPrinted>
  <dcterms:modified xsi:type="dcterms:W3CDTF">2005-05-12T14:38:39Z</dcterms:modified>
  <cp:revision>9</cp:revision>
  <dc:subject/>
  <dc:title>Sin título de diapositiva</dc:title>
</cp:coreProperties>
</file>