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54D2-7E26-4A51-9206-D144EC1C7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2528-793B-4F3E-8331-CC24120DD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2180-E7C0-4417-B827-AFC8B3D8A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9787-52A7-4924-AE46-2C8D4319E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10C4-6666-4007-A247-6D582414A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278D-C7A1-4073-BE44-EAC3ED227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1CA4-18F4-4FBF-8D92-43F8D3900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A267-EB25-450E-A3A4-B67759A0C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ED4B-1229-48D3-9EA3-784503425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467A-B307-41BA-A573-E97FCAD7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115A-814C-41B9-8722-56F1062AD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31EC-BA32-4A66-85FC-4343D2FD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AE1BB-C99C-4590-B5E7-8F985773E5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06600" y="619200"/>
          <a:ext cx="8040600" cy="598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619200"/>
                    <a:ext cx="8040600" cy="59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98280" y="630360"/>
          <a:ext cx="8969400" cy="593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280" y="630360"/>
                    <a:ext cx="8969400" cy="59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20840" y="717480"/>
          <a:ext cx="8609040" cy="58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717480"/>
                    <a:ext cx="8609040" cy="58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33440" y="630360"/>
          <a:ext cx="8139240" cy="582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3440" y="630360"/>
                    <a:ext cx="8139240" cy="58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84120" y="557280"/>
          <a:ext cx="8596440" cy="628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557280"/>
                    <a:ext cx="8596440" cy="62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730080" y="630360"/>
          <a:ext cx="8250480" cy="570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080" y="630360"/>
                    <a:ext cx="8250480" cy="57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209520" y="681120"/>
          <a:ext cx="8832960" cy="5702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681120"/>
                    <a:ext cx="8832960" cy="57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519120" y="606600"/>
          <a:ext cx="8474040" cy="601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606600"/>
                    <a:ext cx="8474040" cy="60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97000" y="593640"/>
          <a:ext cx="8621640" cy="6902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000" y="593640"/>
                    <a:ext cx="8621640" cy="690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395280" y="606600"/>
          <a:ext cx="8474040" cy="599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606600"/>
                    <a:ext cx="847404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49400" y="630360"/>
          <a:ext cx="8893080" cy="743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400" y="630360"/>
                    <a:ext cx="8893080" cy="743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3T19:31:00Z</dcterms:created>
  <dc:creator>jalvarez</dc:creator>
  <dc:description/>
  <dc:language>en-US</dc:language>
  <cp:lastModifiedBy>jalvarez</cp:lastModifiedBy>
  <cp:lastPrinted>2005-05-03T21:14:16Z</cp:lastPrinted>
  <dcterms:modified xsi:type="dcterms:W3CDTF">2005-05-04T17:04:15Z</dcterms:modified>
  <cp:revision>13</cp:revision>
  <dc:subject/>
  <dc:title>Sin título de diapositiva</dc:title>
</cp:coreProperties>
</file>