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AE57D-56E5-4D85-98EF-1CDFB6A84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9CD10-1983-4EA0-B9C0-12A20CBB6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E48A9-1EB5-4CF8-9374-6CDAB16DD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4C4DD-5D88-4E29-8F16-9AF2079CC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41ADC-DA82-4B4D-9732-B2F5F73D6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CE482-ED89-460F-950E-31C39161D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426B7-CD7C-4985-98C0-EBD3E2966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4DB25-5580-4577-B36B-3E5B8C9D2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6C7D3-1812-44C7-8289-9E634DA43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398E6-DD62-4E1E-9C9C-2CA7DB09C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704AD-5E35-4DD9-AB41-49BA9F51B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C5FCD-824A-4374-9459-D2A5FFA76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3EDC3-D93D-4B7F-9693-B39842D2F0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06600" y="619200"/>
          <a:ext cx="8040600" cy="5986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6600" y="619200"/>
                    <a:ext cx="8040600" cy="598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98280" y="630360"/>
          <a:ext cx="8969400" cy="5938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8280" y="630360"/>
                    <a:ext cx="8969400" cy="593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420840" y="717480"/>
          <a:ext cx="8609040" cy="5862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0840" y="717480"/>
                    <a:ext cx="8609040" cy="586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433440" y="630360"/>
          <a:ext cx="8139240" cy="5827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3440" y="630360"/>
                    <a:ext cx="8139240" cy="582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384120" y="557280"/>
          <a:ext cx="8596440" cy="6283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4120" y="557280"/>
                    <a:ext cx="8596440" cy="628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730080" y="630360"/>
          <a:ext cx="8250480" cy="5703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0080" y="630360"/>
                    <a:ext cx="8250480" cy="570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209520" y="681120"/>
          <a:ext cx="8832960" cy="5702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681120"/>
                    <a:ext cx="8832960" cy="570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519120" y="606600"/>
          <a:ext cx="8474040" cy="6011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9120" y="606600"/>
                    <a:ext cx="8474040" cy="601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97000" y="593640"/>
          <a:ext cx="8621640" cy="6902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7000" y="593640"/>
                    <a:ext cx="8621640" cy="690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395280" y="606600"/>
          <a:ext cx="8474040" cy="5999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606600"/>
                    <a:ext cx="8474040" cy="599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149400" y="630360"/>
          <a:ext cx="8893080" cy="7435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9400" y="630360"/>
                    <a:ext cx="8893080" cy="743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03T19:31:00Z</dcterms:created>
  <dc:creator>jalvarez</dc:creator>
  <dc:description/>
  <dc:language>en-US</dc:language>
  <cp:lastModifiedBy>jalvarez</cp:lastModifiedBy>
  <cp:lastPrinted>2005-05-03T21:14:16Z</cp:lastPrinted>
  <dcterms:modified xsi:type="dcterms:W3CDTF">2005-05-04T17:04:15Z</dcterms:modified>
  <cp:revision>13</cp:revision>
  <dc:subject/>
  <dc:title>Sin título de diapositiva</dc:title>
</cp:coreProperties>
</file>