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0C8D-5359-47EA-ADC9-669A48063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07FA-843B-4ED7-ABC6-C39490DDA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BCD9-55FE-4C29-9D27-8E454F9B2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9320-92CB-4ED2-89E6-D7AD8A4D2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AB80-6BF3-47EC-A07E-BC81983B4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0550-0180-4B9E-80CC-4D83150D6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84C4-96C9-43F1-9066-DFBE48280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777F-C669-4E0E-B537-92BE77596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BABC-B3E6-41F9-81FD-661B7FC0F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5EE6-F047-48A7-B002-B8481CD2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261B-1480-4A55-A0C3-C9B4990E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F500-50E0-4B62-B46E-F12CA72F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C210-1A5A-489F-9ED6-516A31E600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07880" y="642960"/>
          <a:ext cx="865980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880" y="642960"/>
                    <a:ext cx="865980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31720" y="544680"/>
          <a:ext cx="8386920" cy="603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544680"/>
                    <a:ext cx="8386920" cy="60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853920" y="531720"/>
          <a:ext cx="7520040" cy="607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531720"/>
                    <a:ext cx="7520040" cy="607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506520" y="581040"/>
          <a:ext cx="8412120" cy="624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581040"/>
                    <a:ext cx="8412120" cy="62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531720" y="384120"/>
          <a:ext cx="8399520" cy="633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384120"/>
                    <a:ext cx="8399520" cy="633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69800" y="619200"/>
          <a:ext cx="8572680" cy="587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619200"/>
                    <a:ext cx="8572680" cy="58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68160" y="619200"/>
          <a:ext cx="8139240" cy="609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619200"/>
                    <a:ext cx="8139240" cy="609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371520" y="333360"/>
          <a:ext cx="8683560" cy="694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520" y="333360"/>
                    <a:ext cx="8683560" cy="694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322200" y="506520"/>
          <a:ext cx="858384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2200" y="506520"/>
                    <a:ext cx="858384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581040" y="531720"/>
          <a:ext cx="8350200" cy="585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531720"/>
                    <a:ext cx="8350200" cy="58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544680" y="531720"/>
          <a:ext cx="8596080" cy="608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531720"/>
                    <a:ext cx="8596080" cy="608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06600" y="581040"/>
          <a:ext cx="8188200" cy="566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581040"/>
                    <a:ext cx="8188200" cy="56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557280" y="420840"/>
          <a:ext cx="8200800" cy="596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420840"/>
                    <a:ext cx="8200800" cy="59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384120" y="420840"/>
          <a:ext cx="8596440" cy="601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420840"/>
                    <a:ext cx="8596440" cy="60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544680" y="568440"/>
          <a:ext cx="8435880" cy="617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568440"/>
                    <a:ext cx="8435880" cy="61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531720" y="692280"/>
          <a:ext cx="8386920" cy="616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692280"/>
                    <a:ext cx="8386920" cy="61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333360" y="557280"/>
          <a:ext cx="8623440" cy="615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557280"/>
                    <a:ext cx="8623440" cy="615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903240" y="704880"/>
          <a:ext cx="7620120" cy="525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240" y="704880"/>
                    <a:ext cx="76201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743040" y="655560"/>
          <a:ext cx="7989840" cy="564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655560"/>
                    <a:ext cx="7989840" cy="564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06600" y="606600"/>
          <a:ext cx="8350200" cy="587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606600"/>
                    <a:ext cx="8350200" cy="58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704880" y="557280"/>
          <a:ext cx="8226360" cy="597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557280"/>
                    <a:ext cx="8226360" cy="59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06520" y="309600"/>
          <a:ext cx="8288280" cy="603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309600"/>
                    <a:ext cx="8288280" cy="603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841320" y="766800"/>
          <a:ext cx="7496280" cy="5629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766800"/>
                    <a:ext cx="7496280" cy="562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68160" y="531720"/>
          <a:ext cx="8139240" cy="597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531720"/>
                    <a:ext cx="8139240" cy="597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28:50Z</dcterms:created>
  <dc:creator>jalvarez</dc:creator>
  <dc:description/>
  <dc:language>en-US</dc:language>
  <cp:lastModifiedBy>jalvarez</cp:lastModifiedBy>
  <cp:lastPrinted>2005-04-29T17:14:56Z</cp:lastPrinted>
  <dcterms:modified xsi:type="dcterms:W3CDTF">2005-04-29T17:40:00Z</dcterms:modified>
  <cp:revision>30</cp:revision>
  <dc:subject/>
  <dc:title>Sin título de diapositiva</dc:title>
</cp:coreProperties>
</file>