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032-0450-4E2D-B5A9-FAF12953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D44-C8A2-4983-92D3-E03F9901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955-465C-46AB-85B1-6542A60B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F9D-CEE1-47F6-9A8D-1B0EA2AB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CEC-8A11-42EC-BF47-660236A9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8B3-4592-481E-9670-C5BD7D79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D33-CCD9-4B81-8063-E72AEE58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D64-A84E-4F31-A483-54F1A2C3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3A4-4278-4BDF-A229-2E1BE886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59A-ED25-4B1B-9066-C5399562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426-B075-4040-AADB-94314E96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EF3-2E7F-432B-8396-8D829334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FED4-817E-4F24-AD1B-CADDE8233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07880" y="642960"/>
          <a:ext cx="86598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42960"/>
                    <a:ext cx="86598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1720" y="544680"/>
          <a:ext cx="83869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44680"/>
                    <a:ext cx="83869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53920" y="531720"/>
          <a:ext cx="752004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6520" y="581040"/>
          <a:ext cx="841212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81040"/>
                    <a:ext cx="84121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384120"/>
          <a:ext cx="839952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384120"/>
                    <a:ext cx="839952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619200"/>
          <a:ext cx="857268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19200"/>
                    <a:ext cx="857268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68160" y="619200"/>
          <a:ext cx="813924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19200"/>
                    <a:ext cx="813924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71520" y="333360"/>
          <a:ext cx="8683560" cy="69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333360"/>
                    <a:ext cx="8683560" cy="69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22200" y="506520"/>
          <a:ext cx="85838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506520"/>
                    <a:ext cx="85838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81040" y="531720"/>
          <a:ext cx="835020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44680" y="531720"/>
          <a:ext cx="859608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59608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581040"/>
          <a:ext cx="81882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1040"/>
                    <a:ext cx="81882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57280" y="420840"/>
          <a:ext cx="820080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20840"/>
                    <a:ext cx="820080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84120" y="420840"/>
          <a:ext cx="85964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20840"/>
                    <a:ext cx="85964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44680" y="568440"/>
          <a:ext cx="843588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68440"/>
                    <a:ext cx="843588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1720" y="692280"/>
          <a:ext cx="8386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92280"/>
                    <a:ext cx="8386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33360" y="557280"/>
          <a:ext cx="862344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557280"/>
                    <a:ext cx="86234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03240" y="704880"/>
          <a:ext cx="7620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70488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3040" y="655560"/>
          <a:ext cx="798984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55560"/>
                    <a:ext cx="798984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6600" y="606600"/>
          <a:ext cx="83502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3502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04880" y="557280"/>
          <a:ext cx="8226360" cy="597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57280"/>
                    <a:ext cx="822636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6520" y="309600"/>
          <a:ext cx="828828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309600"/>
                    <a:ext cx="82882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766800"/>
          <a:ext cx="749628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766800"/>
                    <a:ext cx="749628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68160" y="531720"/>
          <a:ext cx="813924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31720"/>
                    <a:ext cx="81392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29T17:14:56Z</cp:lastPrinted>
  <dcterms:modified xsi:type="dcterms:W3CDTF">2005-04-29T17:40:00Z</dcterms:modified>
  <cp:revision>30</cp:revision>
  <dc:subject/>
  <dc:title>Sin título de diapositiva</dc:title>
</cp:coreProperties>
</file>