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934-3B51-456F-B68E-6CCC79E2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6E3-6FDF-4BF8-84A2-46B3027C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C63-AE5D-4443-838E-5DE0F14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978-5DE5-448A-A362-96A67B9A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F39-111D-4605-98AB-B37BB8E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722-C3D1-42EC-96EF-DE94D0DB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FD4-7B73-4DBC-85BD-2215A8E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CDA-EB80-468F-B448-643BDB5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90-2A01-4C0B-8DD2-A2EFA962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57D-E3D0-4212-ABA1-B2CBB00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918-588E-4385-B15E-EA14D7F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10D-46B7-4FC0-B478-0E744F1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5B4-994E-4C19-9C34-CB83F5AF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7880" y="642960"/>
          <a:ext cx="8659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42960"/>
                    <a:ext cx="8659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1720" y="544680"/>
          <a:ext cx="83869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869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3920" y="531720"/>
          <a:ext cx="75200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6520" y="581040"/>
          <a:ext cx="84121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81040"/>
                    <a:ext cx="8412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384120"/>
          <a:ext cx="839952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84120"/>
                    <a:ext cx="839952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619200"/>
          <a:ext cx="857268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19200"/>
                    <a:ext cx="85726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8160" y="619200"/>
          <a:ext cx="813924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19200"/>
                    <a:ext cx="813924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1520" y="333360"/>
          <a:ext cx="868356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333360"/>
                    <a:ext cx="86835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2200" y="506520"/>
          <a:ext cx="8583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506520"/>
                    <a:ext cx="8583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31720"/>
          <a:ext cx="83502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44680" y="531720"/>
          <a:ext cx="8596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596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81040"/>
          <a:ext cx="81882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1040"/>
                    <a:ext cx="81882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57280" y="420840"/>
          <a:ext cx="820080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20840"/>
                    <a:ext cx="820080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4120" y="420840"/>
          <a:ext cx="85964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44680" y="568440"/>
          <a:ext cx="84358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358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33360" y="557280"/>
          <a:ext cx="86234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234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3240" y="70488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70488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655560"/>
          <a:ext cx="79898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55560"/>
                    <a:ext cx="79898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606600"/>
          <a:ext cx="83502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3502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04880" y="557280"/>
          <a:ext cx="8226360" cy="59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2263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309600"/>
          <a:ext cx="82882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09600"/>
                    <a:ext cx="8288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766800"/>
          <a:ext cx="74962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66800"/>
                    <a:ext cx="74962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8160" y="531720"/>
          <a:ext cx="81392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139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9T17:14:56Z</cp:lastPrinted>
  <dcterms:modified xsi:type="dcterms:W3CDTF">2005-04-29T17:40:00Z</dcterms:modified>
  <cp:revision>30</cp:revision>
  <dc:subject/>
  <dc:title>Sin título de diapositiva</dc:title>
</cp:coreProperties>
</file>