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F3D-2F97-4C3B-AF71-A5338F3B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335-CA9E-43EE-9E96-78CFC35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72A-9CF4-4624-81E2-8F7048F5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0E2-03EC-4F2A-9802-A43A3408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E91-B164-4B4D-A266-753075CE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021-D7EB-47F9-8CF0-F1BE8574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801-E9EC-4E74-87E4-86335923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3DA-12A4-4340-839D-2EAC6743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D7A-9C80-4481-B62D-A5B58A5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99C-55B5-4E17-B1B1-73E618E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E5F-CE76-4BBB-BBE8-36FC58D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65A-8123-413D-AE52-B9EB24F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B63-7371-4A77-9536-5D4F57AE3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7760" y="704880"/>
          <a:ext cx="74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04880"/>
                    <a:ext cx="74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2280" y="531720"/>
          <a:ext cx="8288280" cy="681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288280" cy="68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95360" y="655560"/>
          <a:ext cx="847260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39680" y="630360"/>
          <a:ext cx="7581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581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681120"/>
          <a:ext cx="804060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81120"/>
                    <a:ext cx="804060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1320" y="642960"/>
          <a:ext cx="77929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77929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04880" y="457200"/>
          <a:ext cx="80661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57200"/>
                    <a:ext cx="80661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606600"/>
          <a:ext cx="8647200" cy="65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647200" cy="65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5-01-27T20:21:25Z</cp:lastPrinted>
  <dcterms:modified xsi:type="dcterms:W3CDTF">2005-04-30T17:26:36Z</dcterms:modified>
  <cp:revision>8</cp:revision>
  <dc:subject/>
  <dc:title>Sin título de diapositiva</dc:title>
</cp:coreProperties>
</file>