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0A9-70D3-4105-93BD-33ACD9C7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F35-420C-40A5-B58A-6A81A0F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A15-D266-4F24-9068-FB8D7067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8AF-B615-4F62-BCAF-7CEF1524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086-3FFB-4097-B316-8C8224D2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356-8C89-4AB0-8887-7F2204AD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2DB-755C-4F56-A938-DE8D531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EDF-A109-46A3-B0DA-6C69ADF5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434-5A64-4F0A-99DE-E81FB60B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54F-D717-4CC2-8DC7-D4AFFAD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E22-8E1E-473D-806F-3D1D7DA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49C-AB9E-4847-8C1C-A89BC35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846-337D-4FC4-AD82-63842339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7760" y="704880"/>
          <a:ext cx="74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04880"/>
                    <a:ext cx="74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2280" y="531720"/>
          <a:ext cx="8288280" cy="681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28828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95360" y="655560"/>
          <a:ext cx="847260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39680" y="630360"/>
          <a:ext cx="7581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581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681120"/>
          <a:ext cx="804060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81120"/>
                    <a:ext cx="804060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1320" y="642960"/>
          <a:ext cx="77929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77929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04880" y="457200"/>
          <a:ext cx="80661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57200"/>
                    <a:ext cx="80661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606600"/>
          <a:ext cx="8647200" cy="65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647200" cy="65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5-01-27T20:21:25Z</cp:lastPrinted>
  <dcterms:modified xsi:type="dcterms:W3CDTF">2005-04-30T17:26:36Z</dcterms:modified>
  <cp:revision>8</cp:revision>
  <dc:subject/>
  <dc:title>Sin título de diapositiva</dc:title>
</cp:coreProperties>
</file>