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5503863" cy="7332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A922-33FF-44FE-A0B9-8A4B0F3D8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6C12-BE55-4646-A72B-CE0CC9B12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23B5-D9BF-4C51-ADC9-8DF35B4CD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074E-2671-416F-B302-E676A5EC6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DFD4-1112-4DDC-8532-1E2FD7F1B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531E-EE6F-4634-A581-B45D092D9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ED2F-BF17-4AB0-85D2-9015F5D33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B87F-6DB9-4B12-8889-B887FD59E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8A45-98D7-4159-902B-A98231B45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636A-83B9-475C-9B2F-F51DF295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3A54-BABC-4A94-92AD-B2F273CF4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F94E-DA6C-432A-9FBE-6AA0D9370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5B479-74A4-434F-81B8-D9BD827EAA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77760" y="704880"/>
          <a:ext cx="7458120" cy="557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7760" y="704880"/>
                    <a:ext cx="7458120" cy="55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965160" y="730080"/>
          <a:ext cx="7211880" cy="538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160" y="730080"/>
                    <a:ext cx="7211880" cy="538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965160" y="841320"/>
          <a:ext cx="7211880" cy="517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160" y="841320"/>
                    <a:ext cx="7211880" cy="517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2819520" y="1600200"/>
            <a:ext cx="0" cy="3808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965160" y="730080"/>
          <a:ext cx="7211880" cy="541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160" y="730080"/>
                    <a:ext cx="7211880" cy="541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101600" y="717480"/>
          <a:ext cx="7199280" cy="5294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1600" y="717480"/>
                    <a:ext cx="7199280" cy="529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692280" y="531720"/>
          <a:ext cx="8288280" cy="681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531720"/>
                    <a:ext cx="8288280" cy="681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495360" y="655560"/>
          <a:ext cx="8472600" cy="557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655560"/>
                    <a:ext cx="8472600" cy="55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1039680" y="630360"/>
          <a:ext cx="7581960" cy="600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9680" y="630360"/>
                    <a:ext cx="7581960" cy="60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766800" y="630360"/>
          <a:ext cx="8040600" cy="550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630360"/>
                    <a:ext cx="804060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704880" y="681120"/>
          <a:ext cx="8040600" cy="5702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681120"/>
                    <a:ext cx="8040600" cy="57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841320" y="642960"/>
          <a:ext cx="7792920" cy="58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642960"/>
                    <a:ext cx="7792920" cy="58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04880" y="457200"/>
          <a:ext cx="8066160" cy="62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457200"/>
                    <a:ext cx="806616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395280" y="606600"/>
          <a:ext cx="8647200" cy="654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606600"/>
                    <a:ext cx="8647200" cy="654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1200240" y="692280"/>
          <a:ext cx="7013520" cy="533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692280"/>
                    <a:ext cx="7013520" cy="53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743040" y="457200"/>
          <a:ext cx="7607160" cy="669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457200"/>
                    <a:ext cx="7607160" cy="66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063800" y="531720"/>
          <a:ext cx="7211880" cy="5666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3800" y="531720"/>
                    <a:ext cx="7211880" cy="566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7T18:17:19Z</dcterms:created>
  <dc:creator>jalvarez</dc:creator>
  <dc:description/>
  <dc:language>en-US</dc:language>
  <cp:lastModifiedBy>jalvarez</cp:lastModifiedBy>
  <cp:lastPrinted>2005-01-27T20:21:25Z</cp:lastPrinted>
  <dcterms:modified xsi:type="dcterms:W3CDTF">2005-04-30T17:26:36Z</dcterms:modified>
  <cp:revision>8</cp:revision>
  <dc:subject/>
  <dc:title>Sin título de diapositiva</dc:title>
</cp:coreProperties>
</file>