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DFE4D-3F22-49D7-A38D-499D755AB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BEE4-47A5-4717-BD78-C98DE77E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B5D0-FB36-4E21-A5F4-7EB24AD1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23D-FF7F-4D23-8C8A-F97A023E9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636-32F5-4AA1-B402-A2C526C84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408-4C13-43F2-9FC8-DEE2855B1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E20F-BD07-49DD-B167-59F3615F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2CEF-3C7F-447C-BE1A-00B7DD8DE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BB61-41B4-4A7A-86E8-A9B66F10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2BE-FA85-427D-B845-C45E3070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B38-AB95-477D-91CD-816C5796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1CB6-0D7E-43A0-B9AF-12811E79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B5FB-0B84-4DBB-86C7-8CFE0440D0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53920" y="593640"/>
          <a:ext cx="7867800" cy="63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93640"/>
                    <a:ext cx="7867800" cy="63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68160" y="469800"/>
          <a:ext cx="8226720" cy="702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69800"/>
                    <a:ext cx="8226720" cy="702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07880" y="446040"/>
          <a:ext cx="8560080" cy="670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446040"/>
                    <a:ext cx="8560080" cy="67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17480" y="619200"/>
          <a:ext cx="8139240" cy="5937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619200"/>
                    <a:ext cx="8139240" cy="593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1039680" y="655560"/>
          <a:ext cx="71247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655560"/>
                    <a:ext cx="71247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42960" y="681120"/>
          <a:ext cx="8139240" cy="5788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81120"/>
                    <a:ext cx="8139240" cy="57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55560" y="581040"/>
          <a:ext cx="8374320" cy="540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581040"/>
                    <a:ext cx="8374320" cy="54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79400" y="668160"/>
          <a:ext cx="7620120" cy="5751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668160"/>
                    <a:ext cx="7620120" cy="575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03240" y="581040"/>
          <a:ext cx="7891560" cy="596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581040"/>
                    <a:ext cx="7891560" cy="59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89000" y="779400"/>
          <a:ext cx="721188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9000" y="779400"/>
                    <a:ext cx="721188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55560"/>
          <a:ext cx="8288280" cy="703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55560"/>
                    <a:ext cx="8288280" cy="703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4200" y="593640"/>
          <a:ext cx="807876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593640"/>
                    <a:ext cx="807876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42960" y="692280"/>
          <a:ext cx="8053200" cy="520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92280"/>
                    <a:ext cx="8053200" cy="52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30080" y="630360"/>
          <a:ext cx="818856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630360"/>
                    <a:ext cx="818856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31720" y="506520"/>
          <a:ext cx="8498160" cy="632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506520"/>
                    <a:ext cx="8498160" cy="63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28720" y="619200"/>
          <a:ext cx="7953480" cy="564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619200"/>
                    <a:ext cx="7953480" cy="56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5:15:25Z</dcterms:created>
  <dc:creator>jalvarez</dc:creator>
  <dc:description/>
  <dc:language>en-US</dc:language>
  <cp:lastModifiedBy>jalvarez</cp:lastModifiedBy>
  <cp:lastPrinted>2005-04-19T19:37:46Z</cp:lastPrinted>
  <dcterms:modified xsi:type="dcterms:W3CDTF">2005-04-26T15:29:40Z</dcterms:modified>
  <cp:revision>11</cp:revision>
  <dc:subject/>
  <dc:title>Sin título de diapositiva</dc:title>
</cp:coreProperties>
</file>