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5D5-7513-4CF6-AE23-C7EDCC0C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ED9-C6DD-439B-B787-87E20B96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EA6-ACF7-442C-8DA2-D2CBEB83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68F-5F8B-4D37-BA9D-0EC965ED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66E-908F-45E0-B02F-EBC64168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A4D-54C9-4FAB-8502-3E34CAE3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0DD-0C89-49AF-80CE-FDE87D66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1DB-403A-4298-A927-E75C3FBA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DB7-0DF6-43B6-BAD8-AB5FDA81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2E5-BB7C-4619-B46A-659C24B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34F-D285-43CC-9FC4-7FE5A793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685-A187-48DE-8CB6-995537B7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B5D2-E1C3-43C4-8202-055000F18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07880" y="446040"/>
          <a:ext cx="856008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6008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619200"/>
          <a:ext cx="81392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619200"/>
                    <a:ext cx="81392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55560" y="581040"/>
          <a:ext cx="8374320" cy="54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8856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8856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49816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9816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19200"/>
          <a:ext cx="795348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19200"/>
                    <a:ext cx="795348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5-04-19T19:37:46Z</cp:lastPrinted>
  <dcterms:modified xsi:type="dcterms:W3CDTF">2005-04-26T15:29:40Z</dcterms:modified>
  <cp:revision>11</cp:revision>
  <dc:subject/>
  <dc:title>Sin título de diapositiva</dc:title>
</cp:coreProperties>
</file>