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BE1-7078-4600-99FF-162E334A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614-6723-4063-BC75-ADDEC780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6AF-487C-4EAA-839A-E2050E25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D0C-42D6-42F0-98C6-C7045965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83A-BC96-48F0-9F31-C966D38C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8CA-70C7-4BDB-A067-1D39879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883-235C-42B7-8736-C8FB51B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025-0C6F-4E67-BBB0-40CA5DE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87A-9203-4933-A6AB-D744F08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28F-B592-4FC9-AD0F-DDE1F954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D5A-49F1-44DF-96F0-A98E71D9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D71-41A7-4B19-AB97-0C32032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D158-158C-4DA6-A931-E2D5CE1B3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0" y="655560"/>
          <a:ext cx="7927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7927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704880"/>
          <a:ext cx="86835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6835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44680" y="619200"/>
          <a:ext cx="74707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7470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2960" y="531720"/>
          <a:ext cx="8164440" cy="570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31720"/>
                    <a:ext cx="81644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93640" y="593640"/>
          <a:ext cx="8301240" cy="601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30124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93640" y="619200"/>
          <a:ext cx="84614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4614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82760" y="692280"/>
          <a:ext cx="85104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92280"/>
                    <a:ext cx="85104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3640" y="593640"/>
          <a:ext cx="8164440" cy="603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1644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681120"/>
          <a:ext cx="84247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1120"/>
                    <a:ext cx="84247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9600" y="865080"/>
          <a:ext cx="868356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65080"/>
                    <a:ext cx="86835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1120" y="544680"/>
          <a:ext cx="807696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07696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717480"/>
          <a:ext cx="82008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17480"/>
                    <a:ext cx="82008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717480"/>
          <a:ext cx="79534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17480"/>
                    <a:ext cx="79534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19120" y="198360"/>
          <a:ext cx="846144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98360"/>
                    <a:ext cx="846144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3360" y="260280"/>
          <a:ext cx="846144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60280"/>
                    <a:ext cx="846144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606600"/>
          <a:ext cx="83250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3250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92280"/>
          <a:ext cx="82882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92280"/>
                    <a:ext cx="82882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386920" cy="678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386920" cy="678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9200" y="581040"/>
          <a:ext cx="8386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386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5840" y="446040"/>
          <a:ext cx="7793280" cy="55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446040"/>
                    <a:ext cx="779328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6040"/>
          <a:ext cx="8472600" cy="79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6040"/>
                    <a:ext cx="8472600" cy="79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568440"/>
          <a:ext cx="859788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844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2T16:21:17Z</cp:lastPrinted>
  <dcterms:modified xsi:type="dcterms:W3CDTF">2005-04-22T16:35:28Z</dcterms:modified>
  <cp:revision>27</cp:revision>
  <dc:subject/>
  <dc:title>Sin título de diapositiva</dc:title>
</cp:coreProperties>
</file>