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E89-3D9B-42DD-B21B-CD68DD18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923-5AE9-4816-A53C-0764AC3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6B3-48B8-4315-AF9C-CD43C8DB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D10-445D-49D1-BA6C-917CC7BB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447-D074-4B01-9509-CEBEE75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C9B-BD42-4680-95BB-52F23F99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39E-EF8F-4420-80AF-861E07A4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758-96EF-4101-9A7F-ECE410EE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587-4517-4874-8754-649E654B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383-2DCE-4BA5-8D54-51E2A27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0A3-B426-49A7-9DD6-042ED76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F55-4F84-432A-AA6C-EF4D3452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D050-9FEF-4013-8060-B218A7BA5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9200" y="655560"/>
          <a:ext cx="7927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7927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704880"/>
          <a:ext cx="86835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6835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44680" y="619200"/>
          <a:ext cx="74707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7470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42960" y="531720"/>
          <a:ext cx="8164440" cy="570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531720"/>
                    <a:ext cx="81644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93640" y="593640"/>
          <a:ext cx="8301240" cy="601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30124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93640" y="619200"/>
          <a:ext cx="84614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4614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82760" y="692280"/>
          <a:ext cx="85104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92280"/>
                    <a:ext cx="85104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3640" y="593640"/>
          <a:ext cx="8164440" cy="603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1644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681120"/>
          <a:ext cx="84247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1120"/>
                    <a:ext cx="84247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9600" y="865080"/>
          <a:ext cx="868356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65080"/>
                    <a:ext cx="868356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1120" y="544680"/>
          <a:ext cx="807696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07696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717480"/>
          <a:ext cx="82008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17480"/>
                    <a:ext cx="82008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717480"/>
          <a:ext cx="79534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17480"/>
                    <a:ext cx="79534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19120" y="198360"/>
          <a:ext cx="846144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98360"/>
                    <a:ext cx="846144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33360" y="260280"/>
          <a:ext cx="846144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60280"/>
                    <a:ext cx="846144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606600"/>
          <a:ext cx="83250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3250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92280"/>
          <a:ext cx="82882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92280"/>
                    <a:ext cx="82882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386920" cy="678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386920" cy="678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9200" y="581040"/>
          <a:ext cx="8386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386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5840" y="446040"/>
          <a:ext cx="7793280" cy="55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446040"/>
                    <a:ext cx="779328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6040"/>
          <a:ext cx="8472600" cy="794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6040"/>
                    <a:ext cx="8472600" cy="79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568440"/>
          <a:ext cx="859788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8440"/>
                    <a:ext cx="859788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2T16:21:17Z</cp:lastPrinted>
  <dcterms:modified xsi:type="dcterms:W3CDTF">2005-04-22T16:35:28Z</dcterms:modified>
  <cp:revision>27</cp:revision>
  <dc:subject/>
  <dc:title>Sin título de diapositiva</dc:title>
</cp:coreProperties>
</file>