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F1A9-4694-4F4F-8B43-CD7B7677E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281D-C6FF-4F31-A3CD-6894AFB80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9491A-327D-4736-B84C-C8603648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2598-1BD7-493E-84CF-5CA55ADD2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5068-86B5-4B7E-B4C2-4E817392D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F5AB-5C52-4C88-BAC8-9BF5B8C80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0C02-F2C8-48D8-9319-92D52D788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D8B1D-B9E5-4F4E-878B-0635E14BC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B5F9-7515-4CB9-A78C-06D13E2A1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AFF3-7407-416D-A471-1446D5B6E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20DF-7DAF-4307-B247-81726DD16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006A-BAA6-4C8C-8A6C-AB8C35E6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C346-587A-4965-B38D-D07ECC3E3B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19200" y="655560"/>
          <a:ext cx="7927920" cy="571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655560"/>
                    <a:ext cx="792792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395280" y="704880"/>
          <a:ext cx="8683560" cy="5505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704880"/>
                    <a:ext cx="8683560" cy="550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44680" y="619200"/>
          <a:ext cx="747072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619200"/>
                    <a:ext cx="747072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28720" y="593640"/>
          <a:ext cx="82011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93640"/>
                    <a:ext cx="8201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642960" y="531720"/>
          <a:ext cx="8164440" cy="5702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42960" y="531720"/>
                    <a:ext cx="816444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828720" y="593640"/>
          <a:ext cx="82011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93640"/>
                    <a:ext cx="8201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93640" y="593640"/>
          <a:ext cx="8301240" cy="60120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640" y="593640"/>
                    <a:ext cx="8301240" cy="60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93640" y="619200"/>
          <a:ext cx="8461440" cy="5875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619200"/>
                    <a:ext cx="8461440" cy="587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82760" y="692280"/>
          <a:ext cx="8510400" cy="574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760" y="692280"/>
                    <a:ext cx="8510400" cy="574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828720" y="593640"/>
          <a:ext cx="820116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93640"/>
                    <a:ext cx="820116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593640" y="593640"/>
          <a:ext cx="8164440" cy="60372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3640" y="593640"/>
                    <a:ext cx="8164440" cy="603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457200" y="681120"/>
          <a:ext cx="842472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681120"/>
                    <a:ext cx="842472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" name=""/>
          <p:cNvGraphicFramePr/>
          <p:nvPr/>
        </p:nvGraphicFramePr>
        <p:xfrm>
          <a:off x="309600" y="865080"/>
          <a:ext cx="8683560" cy="5418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9600" y="865080"/>
                    <a:ext cx="8683560" cy="541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3" name=""/>
          <p:cNvGraphicFramePr/>
          <p:nvPr/>
        </p:nvGraphicFramePr>
        <p:xfrm>
          <a:off x="681120" y="544680"/>
          <a:ext cx="8076960" cy="8226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544680"/>
                    <a:ext cx="8076960" cy="822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606600" y="717480"/>
          <a:ext cx="820080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717480"/>
                    <a:ext cx="820080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"/>
          <p:cNvGraphicFramePr/>
          <p:nvPr/>
        </p:nvGraphicFramePr>
        <p:xfrm>
          <a:off x="841320" y="717480"/>
          <a:ext cx="7953480" cy="570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1320" y="717480"/>
                    <a:ext cx="7953480" cy="570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7" name=""/>
          <p:cNvGraphicFramePr/>
          <p:nvPr/>
        </p:nvGraphicFramePr>
        <p:xfrm>
          <a:off x="519120" y="198360"/>
          <a:ext cx="8461440" cy="6654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9120" y="198360"/>
                    <a:ext cx="8461440" cy="665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" name=""/>
          <p:cNvGraphicFramePr/>
          <p:nvPr/>
        </p:nvGraphicFramePr>
        <p:xfrm>
          <a:off x="333360" y="260280"/>
          <a:ext cx="846144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" y="260280"/>
                    <a:ext cx="846144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42960" y="606600"/>
          <a:ext cx="8325000" cy="6951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606600"/>
                    <a:ext cx="8325000" cy="69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692280" y="692280"/>
          <a:ext cx="8288280" cy="60004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2280" y="692280"/>
                    <a:ext cx="8288280" cy="60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593640" y="446040"/>
          <a:ext cx="8386920" cy="678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446040"/>
                    <a:ext cx="8386920" cy="678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619200" y="581040"/>
          <a:ext cx="83865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9200" y="581040"/>
                    <a:ext cx="83865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15840" y="446040"/>
          <a:ext cx="7793280" cy="5553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446040"/>
                    <a:ext cx="7793280" cy="555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95360" y="446040"/>
          <a:ext cx="8472600" cy="794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360" y="446040"/>
                    <a:ext cx="8472600" cy="794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457200" y="568440"/>
          <a:ext cx="8597880" cy="5753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568440"/>
                    <a:ext cx="859788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4T13:28:50Z</dcterms:created>
  <dc:creator>jalvarez</dc:creator>
  <dc:description/>
  <dc:language>en-US</dc:language>
  <cp:lastModifiedBy>jalvarez</cp:lastModifiedBy>
  <cp:lastPrinted>2005-04-22T16:21:17Z</cp:lastPrinted>
  <dcterms:modified xsi:type="dcterms:W3CDTF">2005-04-22T16:35:28Z</dcterms:modified>
  <cp:revision>27</cp:revision>
  <dc:subject/>
  <dc:title>Sin título de diapositiva</dc:title>
</cp:coreProperties>
</file>