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707-0E87-43E5-A893-96672FB4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937-523B-478F-A187-F0883606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885-DD89-4320-A223-885A87D3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101-8275-4C0C-83B7-7BCE90EE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1E8-B281-4EA5-81BA-D0CE1FA8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110-3361-409B-8408-3E2C81F2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2D8-4034-4F09-AD69-6A5907B9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2CA-2122-49E0-A367-0BCEEE0E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F5A-6815-4985-8E44-C4939573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DF8-F43E-45BD-91AE-396AF375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53C-053B-46D8-B4AA-C9CBA79D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7DF-FC23-4E41-8AE2-63256A64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3836-4EE2-4AC3-AD31-32C8421AD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19200" y="655560"/>
          <a:ext cx="79279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5560"/>
                    <a:ext cx="79279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5280" y="704880"/>
          <a:ext cx="86835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04880"/>
                    <a:ext cx="86835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44680" y="619200"/>
          <a:ext cx="747072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74707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42960" y="531720"/>
          <a:ext cx="8164440" cy="570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531720"/>
                    <a:ext cx="816444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93640" y="593640"/>
          <a:ext cx="8301240" cy="601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593640"/>
                    <a:ext cx="830124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93640" y="619200"/>
          <a:ext cx="84614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19200"/>
                    <a:ext cx="84614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82760" y="692280"/>
          <a:ext cx="85104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92280"/>
                    <a:ext cx="85104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93640" y="593640"/>
          <a:ext cx="8164440" cy="603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593640"/>
                    <a:ext cx="81644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57200" y="681120"/>
          <a:ext cx="84247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1120"/>
                    <a:ext cx="84247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9600" y="865080"/>
          <a:ext cx="868356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865080"/>
                    <a:ext cx="868356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1120" y="544680"/>
          <a:ext cx="8076960" cy="822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44680"/>
                    <a:ext cx="8076960" cy="82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717480"/>
          <a:ext cx="820080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17480"/>
                    <a:ext cx="82008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841320" y="717480"/>
          <a:ext cx="79534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717480"/>
                    <a:ext cx="79534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19120" y="198360"/>
          <a:ext cx="8461440" cy="665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98360"/>
                    <a:ext cx="8461440" cy="66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33360" y="260280"/>
          <a:ext cx="846144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60280"/>
                    <a:ext cx="846144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2960" y="606600"/>
          <a:ext cx="8325000" cy="69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06600"/>
                    <a:ext cx="832500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92280"/>
          <a:ext cx="828828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92280"/>
                    <a:ext cx="828828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93640" y="446040"/>
          <a:ext cx="8386920" cy="678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386920" cy="678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9200" y="581040"/>
          <a:ext cx="83865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81040"/>
                    <a:ext cx="83865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15840" y="446040"/>
          <a:ext cx="7793280" cy="555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446040"/>
                    <a:ext cx="779328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95360" y="446040"/>
          <a:ext cx="8472600" cy="794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6040"/>
                    <a:ext cx="8472600" cy="79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568440"/>
          <a:ext cx="859788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68440"/>
                    <a:ext cx="859788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4-22T16:21:17Z</cp:lastPrinted>
  <dcterms:modified xsi:type="dcterms:W3CDTF">2005-04-22T16:35:28Z</dcterms:modified>
  <cp:revision>27</cp:revision>
  <dc:subject/>
  <dc:title>Sin título de diapositiva</dc:title>
</cp:coreProperties>
</file>