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66D-7ECD-4D5A-BE87-6CD53D29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1D3-0C34-48A6-A375-9E9BAC78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DBE-FBAF-45F8-90F1-BF58B265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BE1-A087-46DC-AF4D-4C1BFABC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784-0DE1-454F-8C86-6245EF0D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DED-7EF6-4F2D-B39B-D8E62513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500-2136-4CEF-ABCE-DAE06BC8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E77-0532-49E6-ADBE-44296A0B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67E-0A46-48E6-ADCA-B6AAD1AF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BB6-5AA0-449D-8B0D-8B0423F8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E1C-3755-425A-9FA4-8C071E11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B55-01A4-48D9-A332-FD0DD609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AB5D-FC3C-4A8B-BE65-BCC920E30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19200" y="655560"/>
          <a:ext cx="79279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5560"/>
                    <a:ext cx="79279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5280" y="704880"/>
          <a:ext cx="86835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04880"/>
                    <a:ext cx="86835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44680" y="619200"/>
          <a:ext cx="747072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747072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42960" y="531720"/>
          <a:ext cx="8164440" cy="570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531720"/>
                    <a:ext cx="816444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93640" y="593640"/>
          <a:ext cx="8301240" cy="601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593640"/>
                    <a:ext cx="830124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93640" y="619200"/>
          <a:ext cx="84614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19200"/>
                    <a:ext cx="84614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82760" y="692280"/>
          <a:ext cx="85104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92280"/>
                    <a:ext cx="85104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93640" y="593640"/>
          <a:ext cx="8164440" cy="603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593640"/>
                    <a:ext cx="81644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57200" y="681120"/>
          <a:ext cx="84247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1120"/>
                    <a:ext cx="84247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9600" y="865080"/>
          <a:ext cx="868356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865080"/>
                    <a:ext cx="868356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1120" y="544680"/>
          <a:ext cx="8076960" cy="822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44680"/>
                    <a:ext cx="8076960" cy="82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717480"/>
          <a:ext cx="820080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17480"/>
                    <a:ext cx="82008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841320" y="717480"/>
          <a:ext cx="79534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717480"/>
                    <a:ext cx="79534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19120" y="198360"/>
          <a:ext cx="8461440" cy="665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198360"/>
                    <a:ext cx="8461440" cy="66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33360" y="260280"/>
          <a:ext cx="846144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60280"/>
                    <a:ext cx="846144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2960" y="606600"/>
          <a:ext cx="8325000" cy="69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06600"/>
                    <a:ext cx="832500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92280"/>
          <a:ext cx="828828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92280"/>
                    <a:ext cx="828828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93640" y="446040"/>
          <a:ext cx="8386920" cy="678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46040"/>
                    <a:ext cx="8386920" cy="678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19200" y="581040"/>
          <a:ext cx="83865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81040"/>
                    <a:ext cx="83865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15840" y="446040"/>
          <a:ext cx="7793280" cy="555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446040"/>
                    <a:ext cx="779328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95360" y="446040"/>
          <a:ext cx="8472600" cy="794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6040"/>
                    <a:ext cx="8472600" cy="79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568440"/>
          <a:ext cx="859788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68440"/>
                    <a:ext cx="859788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4-22T16:21:17Z</cp:lastPrinted>
  <dcterms:modified xsi:type="dcterms:W3CDTF">2005-04-22T16:35:28Z</dcterms:modified>
  <cp:revision>27</cp:revision>
  <dc:subject/>
  <dc:title>Sin título de diapositiva</dc:title>
</cp:coreProperties>
</file>