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B52F-BBC6-49C2-B8C5-A370A070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BE39-D628-4986-857A-4440442F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F5B9-B4E2-4977-BA49-82B8D304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E147-9453-4ADA-BC57-2805C978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73F6-C736-4066-8E82-E91071AC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7B88-2BB8-470F-AA8E-5E4EB001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3C34-8A85-42BF-8C08-585B392F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5968-5DFA-494B-B188-C328C9CE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1C5E-A00D-455F-8C18-5C322426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9D24-45D3-449E-AD77-D26563C3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8CC3-750A-459C-AEA6-9D1FDF93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0D34-C471-46F8-9E99-FD1EE05A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9985-95A3-4D18-8F82-B8B1D2293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50840" y="865080"/>
          <a:ext cx="7720200" cy="59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65080"/>
                    <a:ext cx="7720200" cy="59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81120" y="717480"/>
          <a:ext cx="8224920" cy="556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717480"/>
                    <a:ext cx="8224920" cy="556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43040" y="593640"/>
          <a:ext cx="7866000" cy="743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93640"/>
                    <a:ext cx="7866000" cy="743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04640" y="839880"/>
          <a:ext cx="8334720" cy="51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839880"/>
                    <a:ext cx="833472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816120"/>
          <a:ext cx="820116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816120"/>
                    <a:ext cx="820116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9200" y="754200"/>
          <a:ext cx="8324640" cy="57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754200"/>
                    <a:ext cx="832464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878040" y="655560"/>
          <a:ext cx="7792920" cy="606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655560"/>
                    <a:ext cx="7792920" cy="606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9800" y="681120"/>
          <a:ext cx="853596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81120"/>
                    <a:ext cx="853596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92000" y="619200"/>
          <a:ext cx="7990200" cy="61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619200"/>
                    <a:ext cx="799020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06520" y="692280"/>
          <a:ext cx="8512200" cy="574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692280"/>
                    <a:ext cx="8512200" cy="57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19200" y="655560"/>
          <a:ext cx="9239040" cy="640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55560"/>
                    <a:ext cx="9239040" cy="640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55560" y="630360"/>
          <a:ext cx="835020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630360"/>
                    <a:ext cx="83502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95360" y="766800"/>
          <a:ext cx="8423280" cy="51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766800"/>
                    <a:ext cx="842328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42960" y="668160"/>
          <a:ext cx="8325000" cy="602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68160"/>
                    <a:ext cx="832500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93640" y="816120"/>
          <a:ext cx="822636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816120"/>
                    <a:ext cx="822636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1120" y="915840"/>
          <a:ext cx="7780320" cy="528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915840"/>
                    <a:ext cx="7780320" cy="528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27000" y="642960"/>
          <a:ext cx="7929720" cy="601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642960"/>
                    <a:ext cx="7929720" cy="60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06600" y="568440"/>
          <a:ext cx="8324640" cy="633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68440"/>
                    <a:ext cx="8324640" cy="63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5-04-14T19:46:10Z</cp:lastPrinted>
  <dcterms:modified xsi:type="dcterms:W3CDTF">2005-04-14T20:24:33Z</dcterms:modified>
  <cp:revision>9</cp:revision>
  <dc:subject/>
  <dc:title>Sin título de diapositiva</dc:title>
</cp:coreProperties>
</file>