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DE9-2CC4-470D-8046-F7C48ADA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988-623B-4528-B9D7-047089B7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33B-BDA4-4C80-B14E-F3DDB470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331-0301-4AED-AD9A-B948111D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5DF-8B5F-4975-9C49-A8DF6E71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9DA-884C-4F3B-9398-E3D85EB2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58B-2A08-4CDB-9434-4295E402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90B-00FA-49EA-8816-F6B8745B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E80-85FE-4794-A766-8D7BCCEF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DC9-E29E-402A-B0CC-CF2B3E4B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D89-D966-4D5B-BE06-5EDCF1F0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064-6F5A-4714-B957-7B11525F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6E32-BA50-4FF4-A8E3-957154DF3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865080"/>
          <a:ext cx="772020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65080"/>
                    <a:ext cx="772020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593640"/>
          <a:ext cx="7866000" cy="74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93640"/>
                    <a:ext cx="7866000" cy="74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4640" y="839880"/>
          <a:ext cx="833472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839880"/>
                    <a:ext cx="833472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816120"/>
          <a:ext cx="820116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2011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9200" y="754200"/>
          <a:ext cx="83246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754200"/>
                    <a:ext cx="83246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78040" y="655560"/>
          <a:ext cx="779292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79292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681120"/>
          <a:ext cx="85359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81120"/>
                    <a:ext cx="85359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9200" y="655560"/>
          <a:ext cx="92390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92390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55560" y="63036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3036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766800"/>
          <a:ext cx="842328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766800"/>
                    <a:ext cx="84232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668160"/>
          <a:ext cx="83250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25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3640" y="816120"/>
          <a:ext cx="82263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816120"/>
                    <a:ext cx="82263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1120" y="915840"/>
          <a:ext cx="77803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803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27000" y="642960"/>
          <a:ext cx="792972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642960"/>
                    <a:ext cx="792972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568440"/>
          <a:ext cx="83246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3246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14T19:46:10Z</cp:lastPrinted>
  <dcterms:modified xsi:type="dcterms:W3CDTF">2005-04-14T20:24:33Z</dcterms:modified>
  <cp:revision>9</cp:revision>
  <dc:subject/>
  <dc:title>Sin título de diapositiva</dc:title>
</cp:coreProperties>
</file>