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C23-1089-4375-B62B-28D22F86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188-E5A9-4694-ACAC-82638747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AFB-07AE-4D64-87FC-A380F465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759-F2A0-43D9-AB79-F9C15474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390-B569-43B8-9FE3-EB4F8439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2B0-9073-4074-BFAF-59AB0137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596-3EDD-4CA5-970C-EBBB2432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3CB-D90D-4D46-9341-065F9720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CF9-9675-4D7B-BB80-F3D1478E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45D-E751-4920-A90D-A0EDD6B5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57A-6E67-41D5-9394-AAE5765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6AD-B5C9-4D00-B232-7EA0BE7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E165-00C2-4FD6-B063-4C483235D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593640"/>
          <a:ext cx="7866000" cy="74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7866000" cy="74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4640" y="839880"/>
          <a:ext cx="833472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839880"/>
                    <a:ext cx="833472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816120"/>
          <a:ext cx="82011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2011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78040" y="655560"/>
          <a:ext cx="779292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79292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681120"/>
          <a:ext cx="85359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81120"/>
                    <a:ext cx="85359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1120" y="915840"/>
          <a:ext cx="77803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803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14T19:46:10Z</cp:lastPrinted>
  <dcterms:modified xsi:type="dcterms:W3CDTF">2005-04-14T20:24:33Z</dcterms:modified>
  <cp:revision>9</cp:revision>
  <dc:subject/>
  <dc:title>Sin título de diapositiva</dc:title>
</cp:coreProperties>
</file>