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docx" ContentType="application/vnd.openxmlformats-officedocument.wordprocessingml.documen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8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11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</p:sldIdLst>
  <p:sldSz cx="9144000" cy="6858000"/>
  <p:notesSz cx="6994525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DEE1B-8E0B-48D7-8CC2-5C4B568075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7F2AA-824C-48FC-96A2-566D05905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D7CF0-AE4F-446D-9A33-5C52138FB6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59040-1467-4DF8-BE35-278FCF090F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E5051-7D00-4819-AD66-A4C4843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BFA7-0871-4203-9EE1-23C4E8A82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D6205-94F9-47E5-87F3-4F48FCC0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55023-55D6-4480-983B-4A451B0EA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7BF95-AB7C-4DDE-8DAE-755845CC7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BE1D2-F184-4766-92E5-F22E87DC7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D238E-609E-4B8F-8B85-F42B8E1687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B0B31-D321-4B0F-98D2-6441B87AC4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19EDC-6E37-4FF5-802A-6CF7186E490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2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7.wmf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06600" y="681120"/>
          <a:ext cx="8299440" cy="57513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06600" y="681120"/>
                    <a:ext cx="8299440" cy="5751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9" name=""/>
          <p:cNvGraphicFramePr/>
          <p:nvPr/>
        </p:nvGraphicFramePr>
        <p:xfrm>
          <a:off x="828720" y="766800"/>
          <a:ext cx="7867440" cy="557856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66800"/>
                    <a:ext cx="7867440" cy="557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1" name=""/>
          <p:cNvGraphicFramePr/>
          <p:nvPr/>
        </p:nvGraphicFramePr>
        <p:xfrm>
          <a:off x="730080" y="730080"/>
          <a:ext cx="7767720" cy="5330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30080" y="730080"/>
                    <a:ext cx="7767720" cy="5330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3" name=""/>
          <p:cNvGraphicFramePr/>
          <p:nvPr/>
        </p:nvGraphicFramePr>
        <p:xfrm>
          <a:off x="557280" y="531720"/>
          <a:ext cx="8361360" cy="7359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57280" y="531720"/>
                    <a:ext cx="8361360" cy="735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5" name=""/>
          <p:cNvGraphicFramePr/>
          <p:nvPr/>
        </p:nvGraphicFramePr>
        <p:xfrm>
          <a:off x="384120" y="519120"/>
          <a:ext cx="8621640" cy="6122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4120" y="519120"/>
                    <a:ext cx="8621640" cy="6122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" name=""/>
          <p:cNvGraphicFramePr/>
          <p:nvPr/>
        </p:nvGraphicFramePr>
        <p:xfrm>
          <a:off x="754200" y="495360"/>
          <a:ext cx="8238960" cy="66420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54200" y="495360"/>
                    <a:ext cx="8238960" cy="664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" name=""/>
          <p:cNvGraphicFramePr/>
          <p:nvPr/>
        </p:nvGraphicFramePr>
        <p:xfrm>
          <a:off x="681120" y="915840"/>
          <a:ext cx="8113680" cy="50086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1120" y="915840"/>
                    <a:ext cx="8113680" cy="5008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1" name=""/>
          <p:cNvGraphicFramePr/>
          <p:nvPr/>
        </p:nvGraphicFramePr>
        <p:xfrm>
          <a:off x="544680" y="841320"/>
          <a:ext cx="8474040" cy="5516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44680" y="841320"/>
                    <a:ext cx="8474040" cy="5516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3" name=""/>
          <p:cNvGraphicFramePr/>
          <p:nvPr/>
        </p:nvGraphicFramePr>
        <p:xfrm>
          <a:off x="630360" y="1014480"/>
          <a:ext cx="7867440" cy="51703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0360" y="1014480"/>
                    <a:ext cx="7867440" cy="5170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5" name=""/>
          <p:cNvGraphicFramePr/>
          <p:nvPr/>
        </p:nvGraphicFramePr>
        <p:xfrm>
          <a:off x="717480" y="519120"/>
          <a:ext cx="8164440" cy="66308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7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19120"/>
                    <a:ext cx="8164440" cy="6630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3" name=""/>
          <p:cNvGraphicFramePr/>
          <p:nvPr/>
        </p:nvGraphicFramePr>
        <p:xfrm>
          <a:off x="1014480" y="692280"/>
          <a:ext cx="7607160" cy="69530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014480" y="692280"/>
                    <a:ext cx="7607160" cy="6953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5" name=""/>
          <p:cNvGraphicFramePr/>
          <p:nvPr/>
        </p:nvGraphicFramePr>
        <p:xfrm>
          <a:off x="717480" y="557280"/>
          <a:ext cx="8164440" cy="633240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17480" y="557280"/>
                    <a:ext cx="8164440" cy="6332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" name=""/>
          <p:cNvGraphicFramePr/>
          <p:nvPr/>
        </p:nvGraphicFramePr>
        <p:xfrm>
          <a:off x="828720" y="743040"/>
          <a:ext cx="7632720" cy="58132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743040"/>
                    <a:ext cx="7632720" cy="581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865080" y="692280"/>
          <a:ext cx="7917120" cy="61736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65080" y="692280"/>
                    <a:ext cx="7917120" cy="6173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1" name=""/>
          <p:cNvGraphicFramePr/>
          <p:nvPr/>
        </p:nvGraphicFramePr>
        <p:xfrm>
          <a:off x="1336680" y="878040"/>
          <a:ext cx="7062840" cy="5554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336680" y="878040"/>
                    <a:ext cx="7062840" cy="555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3" name=""/>
          <p:cNvGraphicFramePr/>
          <p:nvPr/>
        </p:nvGraphicFramePr>
        <p:xfrm>
          <a:off x="988920" y="655560"/>
          <a:ext cx="7743960" cy="62215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88920" y="655560"/>
                    <a:ext cx="7743960" cy="6221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5" name=""/>
          <p:cNvGraphicFramePr/>
          <p:nvPr/>
        </p:nvGraphicFramePr>
        <p:xfrm>
          <a:off x="828720" y="544680"/>
          <a:ext cx="7656480" cy="707544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8720" y="544680"/>
                    <a:ext cx="7656480" cy="7075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7" name=""/>
          <p:cNvGraphicFramePr/>
          <p:nvPr/>
        </p:nvGraphicFramePr>
        <p:xfrm>
          <a:off x="803160" y="792000"/>
          <a:ext cx="7782120" cy="466272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5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03160" y="792000"/>
                    <a:ext cx="7782120" cy="466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1-20T15:21:23Z</dcterms:created>
  <dc:creator>jalvarez</dc:creator>
  <dc:description/>
  <dc:language>en-US</dc:language>
  <cp:lastModifiedBy>jalvarez</cp:lastModifiedBy>
  <cp:lastPrinted>2005-04-12T21:52:54Z</cp:lastPrinted>
  <dcterms:modified xsi:type="dcterms:W3CDTF">2005-04-14T15:46:39Z</dcterms:modified>
  <cp:revision>23</cp:revision>
  <dc:subject/>
  <dc:title>Sin título de diapositiva</dc:title>
</cp:coreProperties>
</file>