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DDB-48A1-44C4-8305-C135E3C5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355-9D68-4A21-BF84-71287C58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735-CBBE-4159-95A3-D038CC00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BAF-8DF7-429B-B7EE-A15F22CB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F57-9914-4065-BC2A-4038A757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2B9-682A-45A0-BC6A-65B0F792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5EA-ED69-40F0-9A69-3C4E05F0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DE9-55FC-49BE-9E0F-C64FB215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20B-6102-4943-A834-5A21C857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D5A-3C46-4161-BE4D-FD8B259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75B-3F80-4D91-A337-636B09C9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759-8190-4C52-9222-C9A7E86A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A44-5BF2-43FC-BB84-8335208EE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81120"/>
          <a:ext cx="829944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81120"/>
                    <a:ext cx="829944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28720" y="766800"/>
          <a:ext cx="78674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66800"/>
                    <a:ext cx="78674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730080"/>
          <a:ext cx="7767720" cy="533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730080"/>
                    <a:ext cx="77677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57280" y="531720"/>
          <a:ext cx="8361360" cy="735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31720"/>
                    <a:ext cx="8361360" cy="735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4120" y="519120"/>
          <a:ext cx="86216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19120"/>
                    <a:ext cx="86216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495360"/>
          <a:ext cx="823896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3896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1120" y="915840"/>
          <a:ext cx="811368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811368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841320"/>
          <a:ext cx="8474040" cy="551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841320"/>
                    <a:ext cx="847404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0360" y="1014480"/>
          <a:ext cx="786744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014480"/>
                    <a:ext cx="786744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17480" y="519120"/>
          <a:ext cx="8164440" cy="66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19120"/>
                    <a:ext cx="8164440" cy="66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14480" y="692280"/>
          <a:ext cx="7607160" cy="69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92280"/>
                    <a:ext cx="7607160" cy="69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164440" cy="63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1644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28720" y="743040"/>
          <a:ext cx="7632720" cy="58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43040"/>
                    <a:ext cx="76327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65080" y="692280"/>
          <a:ext cx="791712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91712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55560"/>
          <a:ext cx="7743960" cy="622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743960" cy="62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28720" y="544680"/>
          <a:ext cx="76564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44680"/>
                    <a:ext cx="76564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03160" y="792000"/>
          <a:ext cx="7782120" cy="46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792000"/>
                    <a:ext cx="77821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4-12T21:52:54Z</cp:lastPrinted>
  <dcterms:modified xsi:type="dcterms:W3CDTF">2005-04-14T15:46:39Z</dcterms:modified>
  <cp:revision>23</cp:revision>
  <dc:subject/>
  <dc:title>Sin título de diapositiva</dc:title>
</cp:coreProperties>
</file>