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428-B5F9-4097-B587-2713E084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D50-4A46-44DB-884D-9D17F44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34B-A7C9-4C44-B656-13AE1271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866-A72B-41EE-AFE3-7B7AFD4E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51C-A92A-4CF2-910F-25EDC367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B47-F7B9-4A70-8E99-7C251CE8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062-C548-4DB0-906E-7F85D6B5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AB1-1CED-4DC7-996E-667DBC9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2DA-C9F7-4FFA-8EC9-4A8B1256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CE5-8DE9-4287-BD06-94712D9F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50F-3673-48CA-A2AD-94DB71EA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01C-B281-4B96-953A-2F53DEF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29E-922A-4C8D-87FA-7E4CE7CF7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76400" y="890640"/>
          <a:ext cx="7743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743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92280"/>
          <a:ext cx="8288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88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44680"/>
          <a:ext cx="8350200" cy="61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5020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43040" y="681120"/>
          <a:ext cx="79405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79405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57280" y="557280"/>
          <a:ext cx="84484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484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743040"/>
          <a:ext cx="85104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43040"/>
                    <a:ext cx="85104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816120"/>
          <a:ext cx="828828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16120"/>
                    <a:ext cx="828828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446040"/>
          <a:ext cx="8350200" cy="77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77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557280"/>
          <a:ext cx="863424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7280"/>
                    <a:ext cx="863424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68440" y="606600"/>
          <a:ext cx="825156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06600"/>
                    <a:ext cx="825156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68160" y="531720"/>
          <a:ext cx="8386920" cy="708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386920" cy="708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4-11T16:17:10Z</cp:lastPrinted>
  <dcterms:modified xsi:type="dcterms:W3CDTF">2005-04-11T17:02:02Z</dcterms:modified>
  <cp:revision>33</cp:revision>
  <dc:subject/>
  <dc:title>Sin título de diapositiva</dc:title>
</cp:coreProperties>
</file>