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EF1-8D2C-42D3-967D-A6EB5C75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EA1-6E5A-463B-8B37-1BC20441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E19-2730-4A31-B261-116B7A36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A2D-B2F6-439B-A7DA-064E7CA9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EF3-084B-4224-9EE7-170B0A1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652-314F-4F1B-B69E-04DA69CA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DDF-F998-45B2-85A6-019C97FA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035-17EE-4CD6-99F3-2405E45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B6E-C0FE-481D-A967-8E686725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AD1-C8A8-4015-B3F0-351A6B7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EDA-18AD-44F3-BEFF-FC6EA56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DF1-A69D-4781-A253-B603B94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588D-5F41-4638-A2D0-0757CEF63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76400" y="890640"/>
          <a:ext cx="7743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743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9228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44680"/>
          <a:ext cx="835020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5020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81120"/>
          <a:ext cx="79405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405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57280" y="557280"/>
          <a:ext cx="84484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484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743040"/>
          <a:ext cx="85104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43040"/>
                    <a:ext cx="85104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816120"/>
          <a:ext cx="828828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16120"/>
                    <a:ext cx="828828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446040"/>
          <a:ext cx="8350200" cy="77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77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557280"/>
          <a:ext cx="863424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7280"/>
                    <a:ext cx="863424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68440" y="606600"/>
          <a:ext cx="825156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06600"/>
                    <a:ext cx="825156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68160" y="531720"/>
          <a:ext cx="8386920" cy="708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386920" cy="708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1T16:17:10Z</cp:lastPrinted>
  <dcterms:modified xsi:type="dcterms:W3CDTF">2005-04-11T17:02:02Z</dcterms:modified>
  <cp:revision>33</cp:revision>
  <dc:subject/>
  <dc:title>Sin título de diapositiva</dc:title>
</cp:coreProperties>
</file>