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7E2E-CC73-497C-AA5F-F7E470445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38E9-2216-4407-ACD6-83B6D974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0982-4ED8-4B4B-960F-15EBDBE70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1113-D0DE-4113-A7D0-DC894981A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867B-3E59-41AD-90FE-72EBDE0A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4FE9-186F-4265-A3A9-C5412869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E242-9FF0-449D-9BC3-D9895E35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9EC1-870B-4E61-8DBB-7BEA235C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096B-6207-4676-BCF5-8E8C63D6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DBEC-1894-48B8-9A61-3C7F5C87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15BD-02C0-4F24-BCA9-B02BF9F4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B757-2435-4D1E-B300-1D69E2B4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28AD-A038-485B-AE3E-387EF5B68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38320" y="927000"/>
          <a:ext cx="7532640" cy="507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927000"/>
                    <a:ext cx="7532640" cy="50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865080" y="606600"/>
          <a:ext cx="7769160" cy="570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606600"/>
                    <a:ext cx="7769160" cy="57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076400" y="890640"/>
          <a:ext cx="7743600" cy="55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890640"/>
                    <a:ext cx="7743600" cy="55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42960" y="692280"/>
          <a:ext cx="828828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92280"/>
                    <a:ext cx="828828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31720" y="544680"/>
          <a:ext cx="8350200" cy="613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44680"/>
                    <a:ext cx="8350200" cy="61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43040" y="681120"/>
          <a:ext cx="7940520" cy="512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681120"/>
                    <a:ext cx="7940520" cy="51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57280" y="557280"/>
          <a:ext cx="8448480" cy="6110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557280"/>
                    <a:ext cx="8448480" cy="61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04880" y="692280"/>
          <a:ext cx="8275680" cy="686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692280"/>
                    <a:ext cx="8275680" cy="686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20840" y="743040"/>
          <a:ext cx="8510400" cy="55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743040"/>
                    <a:ext cx="8510400" cy="55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076400" y="890640"/>
          <a:ext cx="7891560" cy="561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890640"/>
                    <a:ext cx="789156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81040" y="531720"/>
          <a:ext cx="8350200" cy="748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531720"/>
                    <a:ext cx="8350200" cy="748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42960" y="816120"/>
          <a:ext cx="8288280" cy="541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816120"/>
                    <a:ext cx="8288280" cy="54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30360" y="446040"/>
          <a:ext cx="8350200" cy="778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446040"/>
                    <a:ext cx="8350200" cy="77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816120" y="692280"/>
          <a:ext cx="814068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692280"/>
                    <a:ext cx="814068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20840" y="557280"/>
          <a:ext cx="8634240" cy="648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57280"/>
                    <a:ext cx="8634240" cy="64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68440" y="606600"/>
          <a:ext cx="8251560" cy="670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606600"/>
                    <a:ext cx="8251560" cy="67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68160" y="531720"/>
          <a:ext cx="8386920" cy="708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531720"/>
                    <a:ext cx="8386920" cy="708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43040" y="717480"/>
          <a:ext cx="761976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717480"/>
                    <a:ext cx="761976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5:21:23Z</dcterms:created>
  <dc:creator>jalvarez</dc:creator>
  <dc:description/>
  <dc:language>en-US</dc:language>
  <cp:lastModifiedBy>jalvarez</cp:lastModifiedBy>
  <cp:lastPrinted>2005-04-11T16:17:10Z</cp:lastPrinted>
  <dcterms:modified xsi:type="dcterms:W3CDTF">2005-04-11T17:02:02Z</dcterms:modified>
  <cp:revision>33</cp:revision>
  <dc:subject/>
  <dc:title>Sin título de diapositiva</dc:title>
</cp:coreProperties>
</file>