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5D1-DBE0-4210-8DF3-42CFB831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174-45C0-4CE3-B69F-8E762690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35E-6E6A-41CC-916D-409CAE19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C99-17C4-44ED-8757-AED886FB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47C-19E2-4BA7-BFDF-E3776EB6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FB6-DA3A-419E-B7CA-90C25A4E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1AB-0D77-48A9-A42A-0C072F54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E9E-964C-465E-AC4D-A1C29B0D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2A5-A026-4829-99F1-BB7C3ED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166-DDB1-417E-8D81-0FD3253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6BE-9B1B-4F1C-B0BC-D81CA4CE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55A-C673-4A46-8304-8CCBD34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C362-77C2-4D9B-91D3-91C0CD1CC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841320"/>
          <a:ext cx="774360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841320"/>
                    <a:ext cx="774360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11404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1140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7000" y="743040"/>
          <a:ext cx="776916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668160"/>
          <a:ext cx="77313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68160"/>
                    <a:ext cx="77313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5-04-05T14:28:57Z</cp:lastPrinted>
  <dcterms:modified xsi:type="dcterms:W3CDTF">2005-04-06T13:34:12Z</dcterms:modified>
  <cp:revision>11</cp:revision>
  <dc:subject/>
  <dc:title>Sin título de diapositiva</dc:title>
</cp:coreProperties>
</file>