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9E4-FC16-49BD-B5D1-537B2956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9AF-7800-4006-851B-8BE39861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9CB-A67F-4B7A-804F-CE90D46B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1E6-D6B1-46DD-9939-3BEB40C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8DA-2A6E-48EA-B2F7-EB02D9B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E09-8EF6-4C16-9A79-3AB327EB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29A-F129-477A-857C-4BFD559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044-9055-4BBF-BA23-F7BA8CA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9ED-C506-4B0E-863A-40D6649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71A-4A34-4EA0-AF8F-AACCFB6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6F8-233C-4E43-86CC-DCBE4F7D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9AC-3E3A-4733-B8AE-417583D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C26F-0E76-46AD-A2EE-261341CA9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4-05T14:28:57Z</cp:lastPrinted>
  <dcterms:modified xsi:type="dcterms:W3CDTF">2005-04-06T13:34:12Z</dcterms:modified>
  <cp:revision>11</cp:revision>
  <dc:subject/>
  <dc:title>Sin título de diapositiva</dc:title>
</cp:coreProperties>
</file>