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CB2-C747-4096-8AFB-32E06AA3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EA8-6A19-4986-9134-EC13EBB4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37D-377F-4967-84D2-C63B485C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078-14B2-4E88-A927-D6215B79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B81-E5F3-40EE-9C51-94BBBEB7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E01-C34F-4712-9CFD-47FC4902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1D1-989B-4EF2-A1BC-25DB03FE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3FD-E5F2-4182-A454-A447A120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A0A-3FF7-4075-A0C7-FD30078A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538-ECC9-4C94-99D6-64D3543E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D8B-54C8-4321-BCA9-2A88ABA7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509-0EBA-4A2B-93A3-426A5F5F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3F07-3C77-4BA1-8F35-F99738FB8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2960" y="519120"/>
          <a:ext cx="8263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19120"/>
                    <a:ext cx="8263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841320"/>
          <a:ext cx="774360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841320"/>
                    <a:ext cx="774360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55560"/>
          <a:ext cx="82645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82645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890640"/>
          <a:ext cx="811404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890640"/>
                    <a:ext cx="81140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7760" y="668160"/>
          <a:ext cx="756936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68160"/>
                    <a:ext cx="756936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25360" y="890640"/>
          <a:ext cx="7669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0640"/>
                    <a:ext cx="7669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27000" y="743040"/>
          <a:ext cx="776916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39680" y="668160"/>
          <a:ext cx="77313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68160"/>
                    <a:ext cx="77313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9960" y="717480"/>
          <a:ext cx="76327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6327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0920" y="1039680"/>
          <a:ext cx="726120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039680"/>
                    <a:ext cx="726120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81120"/>
          <a:ext cx="79534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9534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15840" y="655560"/>
          <a:ext cx="74581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4581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5-04-05T14:28:57Z</cp:lastPrinted>
  <dcterms:modified xsi:type="dcterms:W3CDTF">2005-04-06T13:34:12Z</dcterms:modified>
  <cp:revision>11</cp:revision>
  <dc:subject/>
  <dc:title>Sin título de diapositiva</dc:title>
</cp:coreProperties>
</file>