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318-C8DC-40DA-9121-714BE589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3EA-B829-424C-8A83-BB7EDF39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CD1-D261-450B-91B0-989FEA36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537-13B4-456C-8B46-FDBBE23D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F5C-E4A2-4141-ABA1-D783B721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4F7-309E-4932-B6C2-815AA3A0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CB1-1DF8-4DF3-829A-74DFDFDB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FE4-0971-409A-806C-5BF23787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632-FC00-42C6-8BB3-5732B400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670-E238-4897-A2DB-28E92A38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071-DB52-47F3-AFDB-7752C330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EE2-7439-4273-B207-065683B8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055B-7501-4810-B688-14760990F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01880" y="766800"/>
          <a:ext cx="76197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766800"/>
                    <a:ext cx="76197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89000" y="743040"/>
          <a:ext cx="737244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43040"/>
                    <a:ext cx="737244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62080" y="469800"/>
          <a:ext cx="767088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469800"/>
                    <a:ext cx="767088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39680" y="865080"/>
          <a:ext cx="7372440" cy="52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865080"/>
                    <a:ext cx="737244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262160" y="1150920"/>
          <a:ext cx="67914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150920"/>
                    <a:ext cx="67914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43040" y="841320"/>
          <a:ext cx="8015040" cy="54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41320"/>
                    <a:ext cx="8015040" cy="54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8720" y="655560"/>
          <a:ext cx="747216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55560"/>
                    <a:ext cx="747216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76400" y="692280"/>
          <a:ext cx="71625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92280"/>
                    <a:ext cx="71625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754200"/>
          <a:ext cx="828828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54200"/>
                    <a:ext cx="828828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89000" y="717480"/>
          <a:ext cx="78296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17480"/>
                    <a:ext cx="78296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52560" y="655560"/>
          <a:ext cx="7410240" cy="53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55560"/>
                    <a:ext cx="7410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717480"/>
          <a:ext cx="799128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717480"/>
                    <a:ext cx="79912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12760" y="82872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2872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3-22T17:04:09Z</cp:lastPrinted>
  <dcterms:modified xsi:type="dcterms:W3CDTF">2005-03-22T17:14:48Z</dcterms:modified>
  <cp:revision>9</cp:revision>
  <dc:subject/>
  <dc:title>Sin título de diapositiva</dc:title>
</cp:coreProperties>
</file>