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67D-C848-4DAC-B149-75F9EB0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BD7-2AA8-4EBF-8BC5-03E8FE1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F73-0557-4E97-BE32-98F8C97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E09-529C-4F8D-8DF4-BF9245C6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70D-4E60-419C-97C0-D3137B71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89D1-87B1-4CF2-97E6-72E07D53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84BC-C02B-49FB-83AF-8F5632C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311-40B5-4180-AA4F-4BE9B19D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48F-0BBD-4894-8CEF-9F39091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62D-B0BE-4F28-BDA6-80EE054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4F3-FF4E-49CE-B0B0-CD0877A4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2C5-2052-48B7-8A0C-2D7245A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655-98F1-43CF-B7D3-746CD101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197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197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89000" y="74304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841320"/>
          <a:ext cx="801504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41320"/>
                    <a:ext cx="801504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8720" y="655560"/>
          <a:ext cx="747216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55560"/>
                    <a:ext cx="7472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754200"/>
          <a:ext cx="828828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54200"/>
                    <a:ext cx="828828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52560" y="655560"/>
          <a:ext cx="741024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55560"/>
                    <a:ext cx="7410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3-22T17:04:09Z</cp:lastPrinted>
  <dcterms:modified xsi:type="dcterms:W3CDTF">2005-03-22T17:14:48Z</dcterms:modified>
  <cp:revision>9</cp:revision>
  <dc:subject/>
  <dc:title>Sin título de diapositiva</dc:title>
</cp:coreProperties>
</file>