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36C6-097F-453F-876F-0562E36F5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061-BD18-47F5-9552-90DD1A4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391-EBD9-4ACB-9B4D-B7BD1444A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EC4-E0C7-48F7-89BE-A99D1F10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876-ACB0-4899-8568-1772AEBD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BBA-8FC4-4F01-B3C2-A84194E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9EA-6C91-4D2D-8F74-EE64B9DB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84D-08EA-4693-844F-79A9A06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B8B-307F-42A6-BB47-826C3886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6B3-8340-4DBC-B08B-3E9B6CD5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1B09-A88A-4DFD-86EB-EDB2CBD8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2A9-31EA-4906-8E46-482DE11F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36EC-9920-4608-95E1-EC61F5270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197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197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89000" y="743040"/>
          <a:ext cx="737244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43040" y="841320"/>
          <a:ext cx="8015040" cy="543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41320"/>
                    <a:ext cx="801504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28720" y="655560"/>
          <a:ext cx="747216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55560"/>
                    <a:ext cx="747216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754200"/>
          <a:ext cx="8288280" cy="56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54200"/>
                    <a:ext cx="828828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52560" y="655560"/>
          <a:ext cx="7410240" cy="53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55560"/>
                    <a:ext cx="7410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3-22T17:04:09Z</cp:lastPrinted>
  <dcterms:modified xsi:type="dcterms:W3CDTF">2005-03-22T17:14:48Z</dcterms:modified>
  <cp:revision>9</cp:revision>
  <dc:subject/>
  <dc:title>Sin título de diapositiva</dc:title>
</cp:coreProperties>
</file>