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DFB-B052-4A37-81D8-46DFF7F5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76C-70A1-4489-90A5-562DE25F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5BD-8708-4C48-A9C5-89E6ED16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C1D-4380-4FF8-8055-01AA6BEA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8A1-3DCF-405C-9E16-EDEC988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7F0-381A-482F-A4AE-23ABAB4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CEF-4EA7-406B-B22D-7A3F5EF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E89-5068-4E82-BAB7-A592569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72B-502C-4C40-B9DF-109F3552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CF3-01F2-4D1A-95E3-F7F13724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293-C273-4D30-B95D-B25BF52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B53-7760-40DB-BBAA-82CFE23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CBA-E18D-40A6-A092-46CFAC5E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839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839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621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621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3-18T17:47:12Z</cp:lastPrinted>
  <dcterms:modified xsi:type="dcterms:W3CDTF">2005-03-18T19:09:09Z</dcterms:modified>
  <cp:revision>7</cp:revision>
  <dc:subject/>
  <dc:title>Sin título de diapositiva</dc:title>
</cp:coreProperties>
</file>