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245-B2AC-45D0-928C-67945843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01B-F055-4648-9194-E43A40F0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100-D31D-4EF4-9376-FCEFA31E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E58-A8A5-42EB-BE25-35DE25A6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1AD-C8F2-4335-AB73-EA222FE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304-3C9B-457B-9B24-60D0122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A3B-9D21-4703-BC83-032394C9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657-9009-4155-BE9D-446113A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2BB-3A9F-490B-B7D7-EDF9B72D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257-D4AD-400C-9128-9EB14BA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9A8-37CA-43A3-8CFA-59AC275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6B7-3379-4D7E-BC55-A8E5EB7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BBB4-5FC1-42DD-974A-2936317EB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8392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8392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621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621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3-18T17:47:12Z</cp:lastPrinted>
  <dcterms:modified xsi:type="dcterms:W3CDTF">2005-03-18T19:09:09Z</dcterms:modified>
  <cp:revision>7</cp:revision>
  <dc:subject/>
  <dc:title>Sin título de diapositiva</dc:title>
</cp:coreProperties>
</file>