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317-D955-4274-8E5F-C48D3416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FF9-6FC9-4E0A-B024-86F08F6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4C1-06F5-4405-BF64-7E01AE57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9F-E7B2-4EF9-9465-9D6A445E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2E19-C70E-42E6-8C67-220A8BBA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512-6208-41CB-A45E-D41E10E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B70C-0B30-4C06-87EE-4AE856E7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EFB1-59C5-47E5-BF4E-C1CB3C26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A55-F643-4086-8D7C-15D5FB9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B7D8-29E1-4E41-A347-ED1320F0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13F8-E744-4555-A4FE-56C4BE4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B57-FF08-48B9-A04C-005997A2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4FB5-ADF9-4A4E-BC79-2D13090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8784-5A64-4858-91BC-A7337C8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FFCD-45A3-417D-B690-08CD1F9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D2B-41BC-4A67-BBCA-1033AB40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E736-9955-4037-97A0-4CA5923C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AD-2AAE-4F85-994D-19A0F367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77B-D57F-4CDC-ADD1-26CE271B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457-A441-445D-9426-C90DA2A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2DB-62BB-4EB5-B5C1-9641EE9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02B-EE09-4263-A1B5-1A39DD7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3C7-AF26-4905-8642-7AC2CBA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249-1E8D-409B-8292-0914063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Graphite Ligh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17B-FBB7-47C0-9C27-7AA1180E3882}" type="slidenum">
              <a:rPr b="0" lang="es-CL" sz="1400" spc="-1" strike="noStrike">
                <a:solidFill>
                  <a:srgbClr val="40458c"/>
                </a:solidFill>
                <a:latin typeface="Stylus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978120" cy="65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60840" y="6629400"/>
            <a:ext cx="432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Stylus B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D91-8455-4735-B4A3-8768A98ACD9B}" type="slidenum">
              <a:rPr b="0" lang="es-CL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58896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493120" y="6518160"/>
            <a:ext cx="63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echnic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Stylus BT"/>
              </a:rPr>
              <a:t>VII. Computación Numérica</a:t>
            </a:r>
            <a:endParaRPr b="1" lang="en-US" sz="32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31529"/>
                </a:solidFill>
                <a:latin typeface="Technical"/>
              </a:rPr>
              <a:t>1. Polinomios y Series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4" name=""/>
          <p:cNvSpPr/>
          <p:nvPr/>
        </p:nvSpPr>
        <p:spPr>
          <a:xfrm>
            <a:off x="4021560" y="5521320"/>
            <a:ext cx="431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131529"/>
                </a:solidFill>
                <a:latin typeface="Graphite Light"/>
              </a:rPr>
              <a:t>Profesor</a:t>
            </a:r>
            <a:r>
              <a:rPr b="1" lang="es-CL" sz="2800" spc="-1" strike="noStrike">
                <a:solidFill>
                  <a:srgbClr val="131529"/>
                </a:solidFill>
                <a:latin typeface="Graphite Light"/>
              </a:rPr>
              <a:t>: Andrés  Farí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739800"/>
            <a:ext cx="977760" cy="658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160" y="682560"/>
            <a:ext cx="5456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Universidad de Ch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Facultad de Ciencias Físicas y Matemát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Departamento de Ciencias de la Computación</a:t>
            </a:r>
            <a:r>
              <a:rPr b="0" lang="es-ES" sz="1800" spc="-1" strike="noStrike">
                <a:solidFill>
                  <a:srgbClr val="131529"/>
                </a:solidFill>
                <a:latin typeface="Technic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676520"/>
            <a:ext cx="7467840" cy="42861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/* </a:t>
            </a:r>
            <a:r>
              <a:rPr b="0" lang="es-ES" sz="1800" spc="-1" strike="noStrike">
                <a:solidFill>
                  <a:srgbClr val="777777"/>
                </a:solidFill>
                <a:latin typeface="ProFontWindows"/>
              </a:rPr>
              <a:t>Nº de términos de la sumatoria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i=0; i&lt;n; ++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s+=potencia(x,i)/factorial(i)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factorial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==0? 1 : x*factorial(x-1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3D4-C71C-46ED-A9EB-6EF8C2A3E1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981080"/>
            <a:ext cx="7467480" cy="42087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 = 10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 = 1, potencia = 1, factorial = 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 = 1; i &lt; 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potencia *= x) / (factorial *= 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788000"/>
            <a:ext cx="3274920" cy="1166400"/>
          </a:xfrm>
          <a:prstGeom prst="wedgeRoundRectCallout">
            <a:avLst>
              <a:gd name="adj1" fmla="val -58087"/>
              <a:gd name="adj2" fmla="val -67462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optimiza el costo de calcular la potencia y el factorial integrando esos cálculos en la funció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B4D-BE46-47A0-9358-95F9202BE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i&lt;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termino *= x/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807080"/>
            <a:ext cx="3274920" cy="633960"/>
          </a:xfrm>
          <a:prstGeom prst="wedgeRoundRectCallout">
            <a:avLst>
              <a:gd name="adj1" fmla="val -58087"/>
              <a:gd name="adj2" fmla="val -67305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reduce el número de operaciones en un 33%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867-2C37-49CC-9419-725A05FFA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676520"/>
            <a:ext cx="7467840" cy="47793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/* resultado con 3 decimales de precisión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i=1;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tru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 ++i){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/* suma anterior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Ant = s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 s – sAnt &lt;= epsilon )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break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636-6590-494E-AABD-39F098C538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termino &gt; epsilo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3274920" cy="900000"/>
          </a:xfrm>
          <a:prstGeom prst="wedgeRoundRectCallout">
            <a:avLst>
              <a:gd name="adj1" fmla="val -53282"/>
              <a:gd name="adj2" fmla="val -76787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Ya no se calcula la diferencia entre cada términ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439-ABCF-49A7-BC40-0BAE6826A5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jercicios Propuest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Calcular las siguientes funciones mediante las series indicadas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Arcotangente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Seno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oseno: 1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2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2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4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4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ogaritmo natural: 2( Z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+ . . .) con Z =(x-1)/(x+1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93E-0D88-46A6-984B-0FF30E4900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Control de Versiones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0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Se agrega y formatea la materia relativa a Computación Numérica, tal como fue vista el año 2005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Pequeñas mejoras en el formato y animación de las slid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Corrección menores a nombres de variables de instancia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1B1-7896-4432-9C0A-09129E5C4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Agenda...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roblemática del Cálculo numérico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olinomio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Clase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evaluac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Seri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con términos fijos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por precis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4FF-C4E6-48F0-A711-412E52CFD2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álculo numéric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Cuál es la problemática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Calcular </a:t>
            </a:r>
            <a:r>
              <a:rPr b="0" i="1" lang="es-ES_tradnl" sz="3200" spc="-1" strike="noStrike">
                <a:solidFill>
                  <a:srgbClr val="cc0000"/>
                </a:solidFill>
                <a:latin typeface="Technical"/>
              </a:rPr>
              <a:t>eficientemente</a:t>
            </a: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 soluciones de problemas que requieren mucho cálculo y precisión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En este curso se verá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valuar polinomio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Evaluar Serie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raíces de funciones continua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el área bajo la curva (integral definida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8A8-CAA4-4231-B536-4A0FF7DAE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600200"/>
            <a:ext cx="7467840" cy="4471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arreglo de coeficientes */</a:t>
            </a: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]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coeficiente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</a:t>
            </a: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969696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 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grado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double[] unosCoeficientes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Primero se determina 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 = unosCoeficientes.length - 1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copian los coeficientes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[i] = unosCoeficientes[i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440000"/>
            <a:ext cx="3274920" cy="1046520"/>
          </a:xfrm>
          <a:prstGeom prst="wedgeRoundRectCallout">
            <a:avLst>
              <a:gd name="adj1" fmla="val -97305"/>
              <a:gd name="adj2" fmla="val -18574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La clase polinomio permite representar polinomios como objetos, con todas las ventajas que esto implic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E28-3BB4-495A-BC33-B2F7CD8D5C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600200"/>
            <a:ext cx="7467840" cy="469044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int elGrado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Se inicia el grado del polinomi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grado = elGrado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inicia el arreglo de coeficientes en cer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this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i]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void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setCoeficiente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coeficiente,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valor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coeficiente &lt;= (this.grado + 1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coeficiente] = valor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ED4-0A10-4CD2-A5EC-C36B47C6F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Diversos algoritm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600200"/>
            <a:ext cx="7467840" cy="206388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br>
              <a:rPr sz="1600"/>
            </a:b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br>
              <a:rPr sz="1600"/>
            </a:b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Math.pow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467840" cy="27205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evaluar2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potencia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potencia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,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==0 ? 1 : x * potencia(x, i-1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D60-EF7F-49D5-972F-33EECA460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ficiencia en memori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7467480" cy="4039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br>
              <a:rPr sz="1800"/>
            </a:b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potencia = 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++i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s-ES_tradnl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.coeficientes[i] * potenci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potencia *= x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4181400"/>
            <a:ext cx="3274920" cy="1283400"/>
          </a:xfrm>
          <a:prstGeom prst="wedgeRoundRectCallout">
            <a:avLst>
              <a:gd name="adj1" fmla="val -65351"/>
              <a:gd name="adj2" fmla="val -5344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para calcular la potencia es bastante eficiente, pues se realiza un solo cálculo y no se invoca otro método (que es costoso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D0A-FED9-4E63-A7D8-E5269DE90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Factorización de Horne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600200"/>
            <a:ext cx="7467840" cy="382680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/**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Factorizacion de Horn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(...((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*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2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 )x * . . .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i &gt;= 0; --i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s = s * x +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coeficientes[i]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869000"/>
            <a:ext cx="3274920" cy="1046520"/>
          </a:xfrm>
          <a:prstGeom prst="wedgeRoundRectCallout">
            <a:avLst>
              <a:gd name="adj1" fmla="val -73453"/>
              <a:gd name="adj2" fmla="val -9256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es aun más eficiente! Economiza una operación de multiplicación y una asignación!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9D3-987A-48F5-9907-2AFEE2E728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Qué son y cual es el punto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a serie es un polinomio de grado indefinido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 computador no puede procesar un número indefinido de términos, luego, se opta por evaluar el polinomio hasta que la precisión de la evaluación sea suficientemente buena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jemplo: Evaluar </a:t>
            </a:r>
            <a:r>
              <a:rPr b="0" lang="es-ES_tradnl" sz="2800" spc="-1" strike="noStrike">
                <a:solidFill>
                  <a:srgbClr val="000000"/>
                </a:solidFill>
                <a:latin typeface="Technical"/>
              </a:rPr>
              <a:t>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echnical"/>
              </a:rPr>
              <a:t>x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0" y="4495680"/>
          <a:ext cx="43434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95680"/>
                    <a:ext cx="43434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D01-1194-48FB-BDF9-C17EB9E7E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51:05Z</dcterms:created>
  <dc:creator>Sriram Krishnan</dc:creator>
  <dc:description/>
  <dc:language>en-US</dc:language>
  <cp:lastModifiedBy>Andrés Farías</cp:lastModifiedBy>
  <dcterms:modified xsi:type="dcterms:W3CDTF">2006-09-10T19:15:09Z</dcterms:modified>
  <cp:revision>1801</cp:revision>
  <dc:subject/>
  <dc:title>An Architecture for Migration of Distributed Components on the Grid</dc:title>
</cp:coreProperties>
</file>