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965-DE22-4F1F-A3E3-250CF2A4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A2E-38E5-4911-AD99-5F576AC3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16A-2EBC-4C08-A779-78BFF7D3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FE8-27B3-4A42-9C40-A39FA46B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7840-C4C2-4669-89A2-C4485CC1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10D-C9E1-400A-A70E-AA7243D2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C33F-092D-41C6-8F09-232B7FFB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88B5-5994-46B9-819F-942D5FEC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CA2F-32BF-4D7D-8FCA-ECFA3E40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2767-2C3C-42C6-B8CE-FE9D9536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6B99-3FFA-466F-8BD9-2652DC9F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8CF-D5A3-42B6-9AC7-6BA7A62F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B289-AAD3-415B-8136-9811019C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F600-A344-4B9E-8933-0573E6D4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2B04-EFE2-4D6D-BA7D-DC5459B8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3EBD-9637-4471-93F8-72F48DAC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492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447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CBB2-A005-47C1-B6FA-C5F87586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40B-41DB-4136-9D94-A540BAF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00A-3C1B-4548-A400-AF51F2F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993-60F0-40F4-A508-18FF4605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7C2-6006-43A5-BED6-2405DD85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3CC-943D-496A-A67F-247D644F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E00-E3F5-4034-8F89-BC45E9D8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068-F8F7-47AD-952A-2EE08A25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Graphite Light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Stylus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Stylus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Stylus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AD7C-B909-4601-906B-601C5DCBB71F}" type="slidenum">
              <a:rPr b="0" lang="es-CL" sz="1400" spc="-1" strike="noStrike">
                <a:solidFill>
                  <a:srgbClr val="40458c"/>
                </a:solidFill>
                <a:latin typeface="Stylus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6095880"/>
            <a:ext cx="978120" cy="658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60840" y="6629400"/>
            <a:ext cx="432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a50021"/>
                </a:solidFill>
                <a:latin typeface="Stylus BT"/>
              </a:rPr>
              <a:t>v1.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Stylus BT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Stylus B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9F5-BF78-47A3-BD0F-9E62F8A38035}" type="slidenum">
              <a:rPr b="0" lang="es-CL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101080" y="404640"/>
            <a:ext cx="588960" cy="990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493120" y="6518160"/>
            <a:ext cx="63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Stylus BT"/>
              </a:rPr>
              <a:t>v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echnic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echnical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echnic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echnic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echnic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echnic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33"/>
                </a:solidFill>
                <a:latin typeface="Stylus BT"/>
              </a:rPr>
              <a:t>VII. Computación Numérica</a:t>
            </a:r>
            <a:endParaRPr b="1" lang="en-US" sz="3200" spc="-1" strike="noStrike">
              <a:solidFill>
                <a:srgbClr val="990033"/>
              </a:solidFill>
              <a:latin typeface="Stylus B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31529"/>
                </a:solidFill>
                <a:latin typeface="Technical"/>
              </a:rPr>
              <a:t>1. Polinomios y Series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214" name=""/>
          <p:cNvSpPr/>
          <p:nvPr/>
        </p:nvSpPr>
        <p:spPr>
          <a:xfrm>
            <a:off x="4021560" y="5521320"/>
            <a:ext cx="431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131529"/>
                </a:solidFill>
                <a:latin typeface="Graphite Light"/>
              </a:rPr>
              <a:t>Profesor</a:t>
            </a:r>
            <a:r>
              <a:rPr b="1" lang="es-CL" sz="2800" spc="-1" strike="noStrike">
                <a:solidFill>
                  <a:srgbClr val="131529"/>
                </a:solidFill>
                <a:latin typeface="Graphite Light"/>
              </a:rPr>
              <a:t>: Andrés  Farí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739800"/>
            <a:ext cx="977760" cy="658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160" y="682560"/>
            <a:ext cx="5456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Universidad de Chi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Facultad de Ciencias Físicas y Matemátic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31529"/>
                </a:solidFill>
                <a:latin typeface="Technical"/>
              </a:rPr>
              <a:t>Departamento de Ciencias de la Computación</a:t>
            </a:r>
            <a:r>
              <a:rPr b="0" lang="es-ES" sz="1800" spc="-1" strike="noStrike">
                <a:solidFill>
                  <a:srgbClr val="131529"/>
                </a:solidFill>
                <a:latin typeface="Technic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676520"/>
            <a:ext cx="7467840" cy="42861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777777"/>
                </a:solidFill>
                <a:latin typeface="ProFontWindows"/>
              </a:rPr>
              <a:t>/* </a:t>
            </a:r>
            <a:r>
              <a:rPr b="0" lang="es-ES" sz="1800" spc="-1" strike="noStrike">
                <a:solidFill>
                  <a:srgbClr val="777777"/>
                </a:solidFill>
                <a:latin typeface="ProFontWindows"/>
              </a:rPr>
              <a:t>Nº de términos de la sumatoria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n=1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s=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i=0; i&lt;n; ++i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s+=potencia(x,i)/factorial(i);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factorial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x==0? 1 : x*factorial(x-1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0A1-8E14-4F87-8884-00E9EE1654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981080"/>
            <a:ext cx="7467480" cy="42087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n = 10;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 = 1, potencia = 1, factorial = 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 = 1; i &lt; 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(potencia *= x) / (factorial *= i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4788000"/>
            <a:ext cx="3274920" cy="1166400"/>
          </a:xfrm>
          <a:prstGeom prst="wedgeRoundRectCallout">
            <a:avLst>
              <a:gd name="adj1" fmla="val -58087"/>
              <a:gd name="adj2" fmla="val -67462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Se optimiza el costo de calcular la potencia y el factorial integrando esos cálculos en la funció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FEE-B1FC-474D-9E4B-E17CB2196B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número de términos fijo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76520"/>
            <a:ext cx="7467840" cy="36601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n=10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=1; i&lt;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(termino *= x/i)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807080"/>
            <a:ext cx="3274920" cy="633960"/>
          </a:xfrm>
          <a:prstGeom prst="wedgeRoundRectCallout">
            <a:avLst>
              <a:gd name="adj1" fmla="val -58087"/>
              <a:gd name="adj2" fmla="val -67305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Se reduce el número de operaciones en un 33%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E1F-FA5C-4F99-A4C8-DD842FC1AF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una precisión fij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676520"/>
            <a:ext cx="7467840" cy="47793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8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ProFontWindows"/>
              </a:rPr>
              <a:t>{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fr-FR" sz="1800" spc="-1" strike="noStrike">
                <a:solidFill>
                  <a:srgbClr val="777777"/>
                </a:solidFill>
                <a:latin typeface="ProFontWindows"/>
              </a:rPr>
              <a:t>/* resultado con 3 decimales de precisión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epsilon = 0.001;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i=1;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tru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; ++i){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/* suma anterior 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Ant = s;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s += termino *= x/i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if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( s – sAnt &lt;= epsilon ) 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break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18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1C6-9D8F-421A-99E9-4E1790C0B0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 e</a:t>
            </a:r>
            <a:r>
              <a:rPr b="1" lang="es-CL" sz="3600" spc="-1" strike="noStrike" baseline="30000">
                <a:solidFill>
                  <a:srgbClr val="990033"/>
                </a:solidFill>
                <a:latin typeface="Graphite Light"/>
              </a:rPr>
              <a:t>x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Con una precisión fij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676520"/>
            <a:ext cx="7467840" cy="36601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CL" sz="20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 Series 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exp(</a:t>
            </a:r>
            <a:r>
              <a:rPr b="0" lang="es-ES_tradnl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2000" spc="-1" strike="noStrike">
                <a:solidFill>
                  <a:srgbClr val="000000"/>
                </a:solidFill>
                <a:latin typeface="ProFontWindows"/>
              </a:rPr>
              <a:t> x)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roFontWindows"/>
              </a:rPr>
              <a:t>{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epsilon = 0.00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=1, termino=1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(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i=1; termino &gt; epsilon; ++i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s += termino *= x/i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	</a:t>
            </a:r>
            <a:r>
              <a:rPr b="0" lang="pt-BR" sz="20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pt-BR" sz="2000" spc="-1" strike="noStrike">
                <a:solidFill>
                  <a:srgbClr val="000000"/>
                </a:solidFill>
                <a:latin typeface="ProFontWindows"/>
              </a:rPr>
              <a:t> s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3274920" cy="900000"/>
          </a:xfrm>
          <a:prstGeom prst="wedgeRoundRectCallout">
            <a:avLst>
              <a:gd name="adj1" fmla="val -53282"/>
              <a:gd name="adj2" fmla="val -76787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Technical"/>
              </a:rPr>
              <a:t>Ya no se calcula la diferencia entre cada términ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C73-04C6-4B94-B4A9-7E3818468C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jercicios Propuestos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Calcular las siguientes funciones mediante las series indicadas: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Arcotangente: x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Seno: x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!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!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oseno: 1 –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2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2! + x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4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4! -  . . 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ogaritmo natural: 2( Z + Z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3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3 + Z</a:t>
            </a:r>
            <a:r>
              <a:rPr b="0" lang="es-CL" sz="2800" spc="-1" strike="noStrike" baseline="30000">
                <a:solidFill>
                  <a:srgbClr val="40458c"/>
                </a:solidFill>
                <a:latin typeface="Technical"/>
              </a:rPr>
              <a:t>5</a:t>
            </a: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/5 + . . .) con Z =(x-1)/(x+1)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231-CC3C-45F6-AC67-F4E66F05F4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990033"/>
                </a:solidFill>
                <a:latin typeface="Graphite Light"/>
              </a:rPr>
              <a:t>Control de Versiones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0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Se agrega y formatea la materia relativa a Computación Numérica, tal como fue vista el año 2005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1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Pequeñas mejoras en el formato y animación de las slide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cc0000"/>
                </a:solidFill>
                <a:latin typeface="Technical"/>
              </a:rPr>
              <a:t>Versión 1.1.1</a:t>
            </a: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: Corrección menores a nombres de variables de instancia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E0C-10ED-4D47-BA8A-2671AC6136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990033"/>
                </a:solidFill>
                <a:latin typeface="Graphite Light"/>
              </a:rPr>
              <a:t>Agenda...</a:t>
            </a:r>
            <a:endParaRPr b="1" lang="en-US" sz="40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Problemática del Cálculo numérico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Polinomio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a Clase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La evaluación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echnical"/>
              </a:rPr>
              <a:t>Series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álculo con términos fijos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álculo por precisión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6D6-A875-485A-A091-E17DDF371D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álculo numéric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¿Cuál es la problemática?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Calcular </a:t>
            </a:r>
            <a:r>
              <a:rPr b="0" i="1" lang="es-ES_tradnl" sz="3200" spc="-1" strike="noStrike">
                <a:solidFill>
                  <a:srgbClr val="cc0000"/>
                </a:solidFill>
                <a:latin typeface="Technical"/>
              </a:rPr>
              <a:t>eficientemente</a:t>
            </a: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 soluciones de problemas que requieren mucho cálculo y precisión.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echnical"/>
              </a:rPr>
              <a:t>En este curso se verá:</a:t>
            </a:r>
            <a:endParaRPr b="0" lang="en-US" sz="32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Evaluar polinomio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Evaluar Serie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alcular raíces de funciones continuas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echnical"/>
              </a:rPr>
              <a:t>Calcular el área bajo la curva (integral definida)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118-B14F-4FFB-90E8-0D0FCF8CA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lase Polinomi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structura interna y constructo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600200"/>
            <a:ext cx="7467840" cy="44715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ProFontWindows"/>
              </a:rPr>
              <a:t>Polinomio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CL" sz="1600" spc="-1" strike="noStrike">
                <a:solidFill>
                  <a:srgbClr val="777777"/>
                </a:solidFill>
                <a:latin typeface="ProFontWindows"/>
              </a:rPr>
              <a:t>/** 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arreglo de coeficientes */</a:t>
            </a:r>
            <a:br>
              <a:rPr sz="1600"/>
            </a:b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rivat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]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coeficiente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;</a:t>
            </a: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CL" sz="1600" spc="-1" strike="noStrike">
                <a:solidFill>
                  <a:srgbClr val="777777"/>
                </a:solidFill>
                <a:latin typeface="ProFontWindows"/>
              </a:rPr>
              <a:t>/** 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El grado del polinomio */</a:t>
            </a:r>
            <a:br>
              <a:rPr sz="1600"/>
            </a:br>
            <a:r>
              <a:rPr b="0" lang="es-ES_tradnl" sz="1600" spc="-1" strike="noStrike">
                <a:solidFill>
                  <a:srgbClr val="969696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rivate 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grado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;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Polinomio(double[] unosCoeficientes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Primero se determina el grado del polinomio */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grado = unosCoeficientes.length - 1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Luego se copian los coeficientes */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coeficientes =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new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this.grado + 1];</a:t>
            </a:r>
            <a:br>
              <a:rPr sz="1600"/>
            </a:b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grado; i++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.coeficientes[i] = unosCoeficientes[i]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440000"/>
            <a:ext cx="3274920" cy="1046520"/>
          </a:xfrm>
          <a:prstGeom prst="wedgeRoundRectCallout">
            <a:avLst>
              <a:gd name="adj1" fmla="val -97305"/>
              <a:gd name="adj2" fmla="val -18574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La clase polinomio permite representar polinomios como objetos, con todas las ventajas que esto implic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594-CCF4-42F5-A679-3C16CF51CB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Clase Polinomio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structura interna y constructo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600200"/>
            <a:ext cx="7467840" cy="469044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ProFontWindows"/>
              </a:rPr>
              <a:t>Polinomio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Polinomio(int elGrado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Se inicia el grado del polinomio *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grado = elGrado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777777"/>
                </a:solidFill>
                <a:latin typeface="ProFontWindows"/>
              </a:rPr>
              <a:t>/* Luego se inicia el arreglo de coeficientes en cero *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 =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new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[this.grado + 1]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i = 0; i &lt;= this.grado; i++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[i]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void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setCoeficiente(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coeficiente, 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valor) 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993366"/>
                </a:solidFill>
                <a:latin typeface="ProFontWindows"/>
              </a:rPr>
              <a:t>if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 (coeficiente &lt;= (this.grado + 1)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this.coeficientes[coeficiente] = valor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s-ES_tradn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56E-4B4F-4E9B-8E23-9270617410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Diversos algoritmos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600200"/>
            <a:ext cx="7467840" cy="206388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6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br>
              <a:rPr sz="1600"/>
            </a:br>
            <a:br>
              <a:rPr sz="1600"/>
            </a:b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grado; ++i) </a:t>
            </a:r>
            <a:br>
              <a:rPr sz="1600"/>
            </a:b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coeficientes[i] * Math.pow(x, i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;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fr-FR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467840" cy="272052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evaluar2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grado; ++i)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n-US" sz="16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.coeficientes[i] * potencia(x, i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s;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stat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potencia(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x,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){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6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i==0 ? 1 : x * potencia(x, i-1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en-US" sz="1600" spc="-1" strike="noStrike">
                <a:solidFill>
                  <a:srgbClr val="131529"/>
                </a:solidFill>
                <a:latin typeface="ProFontWindows"/>
              </a:rPr>
              <a:t>}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A2C-202E-4316-BCFF-011AF96D71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Eficiencia en memoria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76520"/>
            <a:ext cx="7467480" cy="403956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 = 0;</a:t>
            </a:r>
            <a:br>
              <a:rPr sz="1800"/>
            </a:b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	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potencia = 1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 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i = 0; i &lt;=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grado; ++i)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s += </a:t>
            </a:r>
            <a:r>
              <a:rPr b="0" lang="es-ES_tradnl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.coeficientes[i] * potencia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potencia *= x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s-ES_tradnl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s-ES_tradnl" sz="1800" spc="-1" strike="noStrike">
                <a:solidFill>
                  <a:srgbClr val="131529"/>
                </a:solidFill>
                <a:latin typeface="ProFontWindows"/>
              </a:rPr>
              <a:t> s;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4181400"/>
            <a:ext cx="3274920" cy="1283400"/>
          </a:xfrm>
          <a:prstGeom prst="wedgeRoundRectCallout">
            <a:avLst>
              <a:gd name="adj1" fmla="val -65351"/>
              <a:gd name="adj2" fmla="val -53449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Este algoritmo para calcular la potencia es bastante eficiente, pues se realiza un solo cálculo y no se invoca otro método (que es costoso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A20-E0DD-4D7D-AD2C-6D719E2762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Evaluación de Polinomio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Factorización de Horner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600200"/>
            <a:ext cx="7467840" cy="3826800"/>
          </a:xfrm>
          <a:prstGeom prst="rect">
            <a:avLst/>
          </a:prstGeom>
          <a:solidFill>
            <a:srgbClr val="dddddd"/>
          </a:solidFill>
          <a:ln w="324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993366"/>
                </a:solidFill>
                <a:latin typeface="ProFontWindows"/>
              </a:rPr>
              <a:t>class</a:t>
            </a: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 Polinomio 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/**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 Factorizacion de Horn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 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(...((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*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-1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)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n-2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 )x * . . .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1</a:t>
            </a:r>
            <a:r>
              <a:rPr b="0" lang="pt-BR" sz="1800" spc="-1" strike="noStrike">
                <a:solidFill>
                  <a:srgbClr val="777777"/>
                </a:solidFill>
                <a:latin typeface="ProFontWindows"/>
              </a:rPr>
              <a:t>)x + a</a:t>
            </a:r>
            <a:r>
              <a:rPr b="0" lang="pt-BR" sz="1800" spc="-1" strike="noStrike" baseline="-25000">
                <a:solidFill>
                  <a:srgbClr val="777777"/>
                </a:solidFill>
                <a:latin typeface="ProFontWindows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	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 </a:t>
            </a:r>
            <a:r>
              <a:rPr b="0" lang="es-CL" sz="1800" spc="-1" strike="noStrike">
                <a:solidFill>
                  <a:srgbClr val="777777"/>
                </a:solidFill>
                <a:latin typeface="ProFontWindows"/>
              </a:rPr>
              <a:t>*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public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evaluar(</a:t>
            </a:r>
            <a:r>
              <a:rPr b="0" lang="fr-FR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x)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double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=0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for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(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int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i =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grado; i &gt;= 0; --i)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   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s = s * x + </a:t>
            </a:r>
            <a:r>
              <a:rPr b="0" lang="en-US" sz="1800" spc="-1" strike="noStrike">
                <a:solidFill>
                  <a:srgbClr val="0000ff"/>
                </a:solidFill>
                <a:latin typeface="ProFontWindows"/>
              </a:rPr>
              <a:t>this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.coeficientes[i]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     </a:t>
            </a:r>
            <a:r>
              <a:rPr b="0" lang="en-US" sz="1800" spc="-1" strike="noStrike">
                <a:solidFill>
                  <a:srgbClr val="993366"/>
                </a:solidFill>
                <a:latin typeface="ProFontWindows"/>
              </a:rPr>
              <a:t>return</a:t>
            </a:r>
            <a:r>
              <a:rPr b="0" lang="en-US" sz="1800" spc="-1" strike="noStrike">
                <a:solidFill>
                  <a:srgbClr val="131529"/>
                </a:solidFill>
                <a:latin typeface="ProFontWindows"/>
              </a:rPr>
              <a:t> s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   </a:t>
            </a:r>
            <a:r>
              <a:rPr b="0" lang="fr-FR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</a:tabLst>
            </a:pPr>
            <a:r>
              <a:rPr b="0" lang="es-CL" sz="1800" spc="-1" strike="noStrike">
                <a:solidFill>
                  <a:srgbClr val="131529"/>
                </a:solidFill>
                <a:latin typeface="ProFontWindow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869000"/>
            <a:ext cx="3274920" cy="1046520"/>
          </a:xfrm>
          <a:prstGeom prst="wedgeRoundRectCallout">
            <a:avLst>
              <a:gd name="adj1" fmla="val -73453"/>
              <a:gd name="adj2" fmla="val -92569"/>
              <a:gd name="adj3" fmla="val 16667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31529"/>
                </a:solidFill>
                <a:latin typeface="Technical"/>
              </a:rPr>
              <a:t>Este algoritmo es aun más eficiente! Economiza una operación de multiplicación y una asignación!z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225-AC19-41DD-99BF-CFA13A01C0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33"/>
                </a:solidFill>
                <a:latin typeface="Graphite Light"/>
              </a:rPr>
              <a:t>Series</a:t>
            </a:r>
            <a:br>
              <a:rPr sz="3600"/>
            </a:br>
            <a:r>
              <a:rPr b="1" lang="es-CL" sz="3600" spc="-1" strike="noStrike">
                <a:solidFill>
                  <a:srgbClr val="40458c"/>
                </a:solidFill>
                <a:latin typeface="Stylus BT"/>
              </a:rPr>
              <a:t>¿Qué son y cual es el punto?</a:t>
            </a:r>
            <a:endParaRPr b="1" lang="en-US" sz="3600" spc="-1" strike="noStrike">
              <a:solidFill>
                <a:srgbClr val="990033"/>
              </a:solidFill>
              <a:latin typeface="Graphite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Una serie es un polinomio de grado indefinido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Un computador no puede procesar un número indefinido de términos, luego, se opta por evaluar el polinomio hasta que la precisión de la evaluación sea suficientemente buena.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echnical"/>
              </a:rPr>
              <a:t>Ejemplo: Evaluar </a:t>
            </a:r>
            <a:r>
              <a:rPr b="0" lang="es-ES_tradnl" sz="2800" spc="-1" strike="noStrike">
                <a:solidFill>
                  <a:srgbClr val="000000"/>
                </a:solidFill>
                <a:latin typeface="Technical"/>
              </a:rPr>
              <a:t>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echnical"/>
              </a:rPr>
              <a:t>x</a:t>
            </a:r>
            <a:endParaRPr b="0" lang="en-US" sz="2800" spc="-1" strike="noStrike">
              <a:solidFill>
                <a:srgbClr val="40458c"/>
              </a:solidFill>
              <a:latin typeface="Technic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0" y="4495680"/>
          <a:ext cx="434340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495680"/>
                    <a:ext cx="43434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or Andrés Farí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C9F-77A9-456E-907C-45DA87E3A9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51:05Z</dcterms:created>
  <dc:creator>Sriram Krishnan</dc:creator>
  <dc:description/>
  <dc:language>en-US</dc:language>
  <cp:lastModifiedBy>Andrés Farías</cp:lastModifiedBy>
  <dcterms:modified xsi:type="dcterms:W3CDTF">2006-09-10T19:15:09Z</dcterms:modified>
  <cp:revision>1801</cp:revision>
  <dc:subject/>
  <dc:title>An Architecture for Migration of Distributed Components on the Grid</dc:title>
</cp:coreProperties>
</file>