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B3C-8632-4E54-AC3A-D4F2A4DB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4E2-C46F-4BB4-81DA-1CF7127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CDB-9F49-4F5D-A3E8-D62DFCE0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4C1-63CC-4CD0-B304-C006300B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3D9-3D27-4F3A-83FA-635BA1A2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435-6D6B-458E-A037-F2093082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19A3-276B-4FFD-A636-6427B58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4C9D-678C-4DA6-819B-9BBCBD0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0F5-6AD7-48D1-A4D1-DC245551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2EF7-0B5C-47CE-8555-A543FB5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A4E-A484-4767-9EA9-F13BED2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CB7-6B13-4582-88B2-FED19541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1B3-43F9-4874-915B-CCAF502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7E40-426E-430F-8316-1012D50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EC90-BA60-4375-B80B-89365F3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F947-B9E4-4D30-8ED1-F4834511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E79-9E65-42D8-B2C6-0F31B58C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156-109A-4ED7-9835-FB90388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43C-0457-47D5-B4B8-5E2E87C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AC2-2CF5-48DA-BE25-BBAFDA7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AF2-B410-4D3F-858C-A41C2B2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C0C-574E-4C9A-AA4F-C85B5D0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07F-136D-4C0C-96A3-7312830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473-6B44-4B2C-86FE-6CF177A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Graphite Ligh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B52-A4CD-45FB-AE25-6C0B18A68121}" type="slidenum">
              <a:rPr b="0" lang="es-CL" sz="1400" spc="-1" strike="noStrike">
                <a:solidFill>
                  <a:srgbClr val="40458c"/>
                </a:solidFill>
                <a:latin typeface="Stylus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978120" cy="65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60840" y="6629400"/>
            <a:ext cx="432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Stylus B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B48-D34B-42A5-AB1F-ACC8C68063C0}" type="slidenum">
              <a:rPr b="0" lang="es-CL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58896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493120" y="6518160"/>
            <a:ext cx="63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echnic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Stylus BT"/>
              </a:rPr>
              <a:t>VII. Computación Numérica</a:t>
            </a:r>
            <a:endParaRPr b="1" lang="en-US" sz="32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31529"/>
                </a:solidFill>
                <a:latin typeface="Technical"/>
              </a:rPr>
              <a:t>1. Polinomios y Series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4" name=""/>
          <p:cNvSpPr/>
          <p:nvPr/>
        </p:nvSpPr>
        <p:spPr>
          <a:xfrm>
            <a:off x="4021560" y="5521320"/>
            <a:ext cx="431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131529"/>
                </a:solidFill>
                <a:latin typeface="Graphite Light"/>
              </a:rPr>
              <a:t>Profesor</a:t>
            </a:r>
            <a:r>
              <a:rPr b="1" lang="es-CL" sz="2800" spc="-1" strike="noStrike">
                <a:solidFill>
                  <a:srgbClr val="131529"/>
                </a:solidFill>
                <a:latin typeface="Graphite Light"/>
              </a:rPr>
              <a:t>: Andrés  Farí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739800"/>
            <a:ext cx="977760" cy="658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160" y="682560"/>
            <a:ext cx="5456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Universidad de Ch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Facultad de Ciencias Físicas y Matemát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Departamento de Ciencias de la Computación</a:t>
            </a:r>
            <a:r>
              <a:rPr b="0" lang="es-ES" sz="1800" spc="-1" strike="noStrike">
                <a:solidFill>
                  <a:srgbClr val="131529"/>
                </a:solidFill>
                <a:latin typeface="Technic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676520"/>
            <a:ext cx="7467840" cy="42861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/* </a:t>
            </a:r>
            <a:r>
              <a:rPr b="0" lang="es-ES" sz="1800" spc="-1" strike="noStrike">
                <a:solidFill>
                  <a:srgbClr val="777777"/>
                </a:solidFill>
                <a:latin typeface="ProFontWindows"/>
              </a:rPr>
              <a:t>Nº de términos de la sumatoria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i=0; i&lt;n; ++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s+=potencia(x,i)/factorial(i)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factorial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==0? 1 : x*factorial(x-1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4DA-EF24-4677-8079-E8B1DBBEAB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981080"/>
            <a:ext cx="7467480" cy="42087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 = 10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 = 1, potencia = 1, factorial = 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 = 1; i &lt; 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potencia *= x) / (factorial *= 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788000"/>
            <a:ext cx="3274920" cy="1166400"/>
          </a:xfrm>
          <a:prstGeom prst="wedgeRoundRectCallout">
            <a:avLst>
              <a:gd name="adj1" fmla="val -58087"/>
              <a:gd name="adj2" fmla="val -67462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optimiza el costo de calcular la potencia y el factorial integrando esos cálculos en la funció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05F-8252-4B5B-91A3-E99FBF473A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i&lt;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termino *= x/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807080"/>
            <a:ext cx="3274920" cy="633960"/>
          </a:xfrm>
          <a:prstGeom prst="wedgeRoundRectCallout">
            <a:avLst>
              <a:gd name="adj1" fmla="val -58087"/>
              <a:gd name="adj2" fmla="val -67305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reduce el número de operaciones en un 33%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946-D793-44B6-8E04-33849AD21A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676520"/>
            <a:ext cx="7467840" cy="47793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/* resultado con 3 decimales de precisión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i=1;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tru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 ++i){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/* suma anterior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Ant = s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 s – sAnt &lt;= epsilon )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break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512-7DB7-4C4C-861B-76BE84F93F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termino &gt; epsilo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3274920" cy="900000"/>
          </a:xfrm>
          <a:prstGeom prst="wedgeRoundRectCallout">
            <a:avLst>
              <a:gd name="adj1" fmla="val -53282"/>
              <a:gd name="adj2" fmla="val -76787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Ya no se calcula la diferencia entre cada términ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0E7-1555-4263-B7ED-C241FB0F10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jercicios Propuest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Calcular las siguientes funciones mediante las series indicadas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Arcotangente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Seno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oseno: 1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2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2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4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4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ogaritmo natural: 2( Z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+ . . .) con Z =(x-1)/(x+1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824-A4F5-4CF0-868D-4674C32617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Control de Versiones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0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Se agrega y formatea la materia relativa a Computación Numérica, tal como fue vista el año 2005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Pequeñas mejoras en el formato y animación de las slid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Corrección menores a nombres de variables de instancia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E56-FC78-4D28-A2C6-FAB113C88F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Agenda...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roblemática del Cálculo numérico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olinomio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Clase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evaluac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Seri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con términos fijos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por precis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651-8CF0-46EE-8AB9-F2C078E610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álculo numéric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Cuál es la problemática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Calcular </a:t>
            </a:r>
            <a:r>
              <a:rPr b="0" i="1" lang="es-ES_tradnl" sz="3200" spc="-1" strike="noStrike">
                <a:solidFill>
                  <a:srgbClr val="cc0000"/>
                </a:solidFill>
                <a:latin typeface="Technical"/>
              </a:rPr>
              <a:t>eficientemente</a:t>
            </a: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 soluciones de problemas que requieren mucho cálculo y precisión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En este curso se verá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valuar polinomio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Evaluar Serie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raíces de funciones continua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el área bajo la curva (integral definida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872-9559-4CB2-811A-2B23B03A3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600200"/>
            <a:ext cx="7467840" cy="4471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arreglo de coeficientes */</a:t>
            </a: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]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coeficiente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</a:t>
            </a: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969696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 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grado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double[] unosCoeficientes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Primero se determina 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 = unosCoeficientes.length - 1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copian los coeficientes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[i] = unosCoeficientes[i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440000"/>
            <a:ext cx="3274920" cy="1046520"/>
          </a:xfrm>
          <a:prstGeom prst="wedgeRoundRectCallout">
            <a:avLst>
              <a:gd name="adj1" fmla="val -97305"/>
              <a:gd name="adj2" fmla="val -18574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La clase polinomio permite representar polinomios como objetos, con todas las ventajas que esto implic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B1A-49AD-46EE-81DB-F96DCE101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600200"/>
            <a:ext cx="7467840" cy="469044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int elGrado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Se inicia el grado del polinomi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grado = elGrado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inicia el arreglo de coeficientes en cer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this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i]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void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setCoeficiente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coeficiente,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valor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coeficiente &lt;= (this.grado + 1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coeficiente] = valor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DE4-5D68-4EC2-A6EB-F025FB28D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Diversos algoritm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600200"/>
            <a:ext cx="7467840" cy="206388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br>
              <a:rPr sz="1600"/>
            </a:b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br>
              <a:rPr sz="1600"/>
            </a:b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Math.pow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467840" cy="27205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evaluar2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potencia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potencia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,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==0 ? 1 : x * potencia(x, i-1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E5D-8F10-4111-A2C2-31304124D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ficiencia en memori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7467480" cy="4039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br>
              <a:rPr sz="1800"/>
            </a:b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potencia = 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++i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s-ES_tradnl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.coeficientes[i] * potenci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potencia *= x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4181400"/>
            <a:ext cx="3274920" cy="1283400"/>
          </a:xfrm>
          <a:prstGeom prst="wedgeRoundRectCallout">
            <a:avLst>
              <a:gd name="adj1" fmla="val -65351"/>
              <a:gd name="adj2" fmla="val -5344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para calcular la potencia es bastante eficiente, pues se realiza un solo cálculo y no se invoca otro método (que es costoso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83C-19CF-4D31-AFFF-CB83A6ABE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Factorización de Horne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600200"/>
            <a:ext cx="7467840" cy="382680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/**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Factorizacion de Horn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(...((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*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2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 )x * . . .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i &gt;= 0; --i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s = s * x +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coeficientes[i]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869000"/>
            <a:ext cx="3274920" cy="1046520"/>
          </a:xfrm>
          <a:prstGeom prst="wedgeRoundRectCallout">
            <a:avLst>
              <a:gd name="adj1" fmla="val -73453"/>
              <a:gd name="adj2" fmla="val -9256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es aun más eficiente! Economiza una operación de multiplicación y una asignación!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211-E126-4B7C-A5DE-43F568CA34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Qué son y cual es el punto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a serie es un polinomio de grado indefinido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 computador no puede procesar un número indefinido de términos, luego, se opta por evaluar el polinomio hasta que la precisión de la evaluación sea suficientemente buena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jemplo: Evaluar </a:t>
            </a:r>
            <a:r>
              <a:rPr b="0" lang="es-ES_tradnl" sz="2800" spc="-1" strike="noStrike">
                <a:solidFill>
                  <a:srgbClr val="000000"/>
                </a:solidFill>
                <a:latin typeface="Technical"/>
              </a:rPr>
              <a:t>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echnical"/>
              </a:rPr>
              <a:t>x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0" y="4495680"/>
          <a:ext cx="43434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95680"/>
                    <a:ext cx="43434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836-4989-4A6C-A3AC-A98A48253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51:05Z</dcterms:created>
  <dc:creator>Sriram Krishnan</dc:creator>
  <dc:description/>
  <dc:language>en-US</dc:language>
  <cp:lastModifiedBy>Andrés Farías</cp:lastModifiedBy>
  <dcterms:modified xsi:type="dcterms:W3CDTF">2006-09-10T19:15:09Z</dcterms:modified>
  <cp:revision>1801</cp:revision>
  <dc:subject/>
  <dc:title>An Architecture for Migration of Distributed Components on the Grid</dc:title>
</cp:coreProperties>
</file>