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24F-C7AE-45C3-B61A-EBD6AEF7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8AE-510F-43CC-A274-DD375CD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A1D-B1B6-4205-A695-7BE3AF24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E7D-91AB-478E-8117-AD54F67E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A47-11DA-4A41-B81D-7D1885EE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D5F-1D59-4217-A19E-9056BA1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6D2-886E-4568-B3D2-11B742B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355-289E-43EE-A610-948AE8B7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6A0-46D0-4D25-B9EC-4F31A4A5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82F-43C6-4F79-A82F-CCD26378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5E5-3185-408D-B8F0-E7E2A91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BC0-FEE4-4AD9-84AA-97BFBAA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C60F-0DFC-41FC-928D-2054B1AFE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2760" y="482760"/>
          <a:ext cx="835020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3502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4200" y="519120"/>
          <a:ext cx="81151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1151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568440"/>
          <a:ext cx="84726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68440"/>
                    <a:ext cx="8472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81040"/>
          <a:ext cx="83502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502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469800"/>
          <a:ext cx="8510760" cy="624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69800"/>
                    <a:ext cx="8510760" cy="62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93640"/>
          <a:ext cx="83250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93640"/>
                    <a:ext cx="83250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7480" y="531720"/>
          <a:ext cx="80154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0154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3869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3869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544680"/>
          <a:ext cx="84250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44680"/>
                    <a:ext cx="8425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43040" y="568440"/>
          <a:ext cx="822492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22492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495360"/>
          <a:ext cx="84992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95360"/>
                    <a:ext cx="84992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407880"/>
          <a:ext cx="848700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8700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5936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936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2760" y="433440"/>
          <a:ext cx="851040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1040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568440"/>
          <a:ext cx="857268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68440"/>
                    <a:ext cx="85726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48276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8-04T17:22:52Z</cp:lastPrinted>
  <dcterms:modified xsi:type="dcterms:W3CDTF">2006-08-07T19:52:27Z</dcterms:modified>
  <cp:revision>19</cp:revision>
  <dc:subject/>
  <dc:title>Sin título de diapositiva</dc:title>
</cp:coreProperties>
</file>