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ABA8C-CEE6-4555-A987-196B6AADE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48772-DE15-4D91-BDC6-A5E4211A7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2CEB9-6205-4158-A606-0C66E621E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CE0BF-1906-42BA-854F-493A283F4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80DFC-4C9E-4794-8585-AF2B3A9BB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EFBA9-5AE2-492E-B1D4-8AB6D8AB4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B5D04-ED74-49E7-A378-29895F722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502CA-407B-461E-9882-7DB941FC3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6FF2D-441E-418E-B052-72911B234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1B818-F666-4B1F-BC23-BD85B9876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9F540-ED5D-4100-9B5E-42C4FDBAB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8F702-5A0C-4087-B8AF-97AB64467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045DF-6BF6-42F2-BE1F-D9BE597D04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482760" y="482760"/>
          <a:ext cx="8350200" cy="6654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2760" y="482760"/>
                    <a:ext cx="8350200" cy="665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754200" y="519120"/>
          <a:ext cx="8115120" cy="6284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4200" y="519120"/>
                    <a:ext cx="8115120" cy="628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495360" y="568440"/>
          <a:ext cx="8472600" cy="6210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360" y="568440"/>
                    <a:ext cx="8472600" cy="621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630360" y="581040"/>
          <a:ext cx="8350200" cy="5789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0360" y="581040"/>
                    <a:ext cx="8350200" cy="578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446040" y="469800"/>
          <a:ext cx="8510760" cy="6247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469800"/>
                    <a:ext cx="8510760" cy="624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655560" y="593640"/>
          <a:ext cx="8325000" cy="5789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5560" y="593640"/>
                    <a:ext cx="8325000" cy="578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717480" y="531720"/>
          <a:ext cx="8015400" cy="6234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7480" y="531720"/>
                    <a:ext cx="8015400" cy="62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469800" y="457200"/>
          <a:ext cx="8386920" cy="5753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457200"/>
                    <a:ext cx="8386920" cy="575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469800" y="544680"/>
          <a:ext cx="8425080" cy="5825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544680"/>
                    <a:ext cx="8425080" cy="582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743040" y="568440"/>
          <a:ext cx="8224920" cy="6235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3040" y="568440"/>
                    <a:ext cx="8224920" cy="623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506520" y="495360"/>
          <a:ext cx="8499240" cy="7013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6520" y="495360"/>
                    <a:ext cx="8499240" cy="701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469800" y="407880"/>
          <a:ext cx="8487000" cy="6185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407880"/>
                    <a:ext cx="8487000" cy="618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681120" y="593640"/>
          <a:ext cx="8262720" cy="5913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1120" y="593640"/>
                    <a:ext cx="8262720" cy="591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487440" y="666720"/>
          <a:ext cx="8170920" cy="5526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7440" y="666720"/>
                    <a:ext cx="8170920" cy="552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482760" y="433440"/>
          <a:ext cx="8510400" cy="7248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2760" y="433440"/>
                    <a:ext cx="8510400" cy="724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446040" y="568440"/>
          <a:ext cx="8572680" cy="6383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568440"/>
                    <a:ext cx="8572680" cy="638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469800" y="446040"/>
          <a:ext cx="8548920" cy="6357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446040"/>
                    <a:ext cx="8548920" cy="63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457200" y="482760"/>
          <a:ext cx="8412120" cy="6035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82760"/>
                    <a:ext cx="8412120" cy="603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9T19:14:29Z</dcterms:created>
  <dc:creator>jalvarez</dc:creator>
  <dc:description/>
  <dc:language>en-US</dc:language>
  <cp:lastModifiedBy>jalvarez</cp:lastModifiedBy>
  <cp:lastPrinted>2006-08-04T17:22:52Z</cp:lastPrinted>
  <dcterms:modified xsi:type="dcterms:W3CDTF">2006-08-07T19:52:27Z</dcterms:modified>
  <cp:revision>19</cp:revision>
  <dc:subject/>
  <dc:title>Sin título de diapositiva</dc:title>
</cp:coreProperties>
</file>