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B15E-2650-469C-8A70-2AF3D575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F7C5-B1B3-47D5-B342-EBB1E23A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F7A3-BB21-4D26-858E-61FF5AAE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6A5D-5152-4B05-B30D-2C3E6F09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D5B3-A3C9-4F98-9151-3529EC0D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7B1-9DA8-49F6-8D5A-FBB7E929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69CD-54A2-4E89-9AD2-6726D2A7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8C30-36DD-43F2-A890-D896ACF6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CEDB-5FBD-442B-9625-3F519016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122-90EB-4E43-A085-D6CE9104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7EA8-BD7A-4FFE-8CE4-3A222993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76A-2770-4AFB-93E4-CF73F1D7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5ECC-6A99-41D7-8EB9-DE4F14F9D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82760" y="482760"/>
          <a:ext cx="8350200" cy="66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350200" cy="66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4200" y="519120"/>
          <a:ext cx="8115120" cy="62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19120"/>
                    <a:ext cx="8115120" cy="62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95360" y="568440"/>
          <a:ext cx="847260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568440"/>
                    <a:ext cx="847260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30360" y="581040"/>
          <a:ext cx="835020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81040"/>
                    <a:ext cx="835020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46040" y="469800"/>
          <a:ext cx="8510760" cy="624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469800"/>
                    <a:ext cx="8510760" cy="624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55560" y="593640"/>
          <a:ext cx="832500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93640"/>
                    <a:ext cx="832500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17480" y="531720"/>
          <a:ext cx="801540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31720"/>
                    <a:ext cx="801540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457200"/>
          <a:ext cx="838692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57200"/>
                    <a:ext cx="83869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69800" y="544680"/>
          <a:ext cx="842508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44680"/>
                    <a:ext cx="842508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743040" y="568440"/>
          <a:ext cx="8224920" cy="623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68440"/>
                    <a:ext cx="8224920" cy="62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06520" y="495360"/>
          <a:ext cx="8499240" cy="701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95360"/>
                    <a:ext cx="8499240" cy="70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407880"/>
          <a:ext cx="8487000" cy="618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87000" cy="61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1120" y="593640"/>
          <a:ext cx="826272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593640"/>
                    <a:ext cx="826272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87440" y="666720"/>
          <a:ext cx="81709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666720"/>
                    <a:ext cx="81709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82760" y="433440"/>
          <a:ext cx="8510400" cy="724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33440"/>
                    <a:ext cx="8510400" cy="724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46040" y="568440"/>
          <a:ext cx="8572680" cy="638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68440"/>
                    <a:ext cx="8572680" cy="63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69800" y="446040"/>
          <a:ext cx="85489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6040"/>
                    <a:ext cx="85489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482760"/>
          <a:ext cx="8412120" cy="603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2760"/>
                    <a:ext cx="841212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9:14:29Z</dcterms:created>
  <dc:creator>jalvarez</dc:creator>
  <dc:description/>
  <dc:language>en-US</dc:language>
  <cp:lastModifiedBy>jalvarez</cp:lastModifiedBy>
  <cp:lastPrinted>2006-08-04T17:22:52Z</cp:lastPrinted>
  <dcterms:modified xsi:type="dcterms:W3CDTF">2006-08-07T19:52:27Z</dcterms:modified>
  <cp:revision>19</cp:revision>
  <dc:subject/>
  <dc:title>Sin título de diapositiva</dc:title>
</cp:coreProperties>
</file>