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078-6091-4472-9641-0C929F6B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788-5D7B-44D0-B74F-8ACD70BA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DED-985B-40A9-A18C-D959C4EA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DDD-BC6B-4E0B-A487-5B57C7FA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601-689F-4E39-88EA-623D967D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2FD-7FB1-4571-AD27-EC9135BA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096-F8AE-4F06-905E-5B040244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223-F7B4-4930-A18D-9670747E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1B4-11D8-4BCC-8657-0272E7D0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9A4-A5A0-42E3-AEAC-7F1766EF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E35-2446-4F4A-89A5-3C70919F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6C9-5088-4BE2-AD50-5B95C7D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B237-8430-452B-8AA0-28D4B1AE3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2760" y="482760"/>
          <a:ext cx="8350200" cy="66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35020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4200" y="519120"/>
          <a:ext cx="81151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19120"/>
                    <a:ext cx="81151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5360" y="568440"/>
          <a:ext cx="84726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68440"/>
                    <a:ext cx="84726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81040"/>
          <a:ext cx="83502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81040"/>
                    <a:ext cx="83502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469800"/>
          <a:ext cx="8510760" cy="624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69800"/>
                    <a:ext cx="8510760" cy="62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55560" y="593640"/>
          <a:ext cx="83250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93640"/>
                    <a:ext cx="83250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7480" y="531720"/>
          <a:ext cx="801540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31720"/>
                    <a:ext cx="801540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57200"/>
          <a:ext cx="83869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3869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544680"/>
          <a:ext cx="842508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44680"/>
                    <a:ext cx="842508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43040" y="568440"/>
          <a:ext cx="822492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68440"/>
                    <a:ext cx="822492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6520" y="495360"/>
          <a:ext cx="84992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95360"/>
                    <a:ext cx="84992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407880"/>
          <a:ext cx="848700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8700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593640"/>
          <a:ext cx="8262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93640"/>
                    <a:ext cx="8262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82760" y="433440"/>
          <a:ext cx="8510400" cy="724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10400" cy="72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568440"/>
          <a:ext cx="8572680" cy="63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68440"/>
                    <a:ext cx="85726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482760"/>
          <a:ext cx="84121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121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jalvarez</cp:lastModifiedBy>
  <cp:lastPrinted>2006-08-04T17:22:52Z</cp:lastPrinted>
  <dcterms:modified xsi:type="dcterms:W3CDTF">2006-08-07T19:52:27Z</dcterms:modified>
  <cp:revision>19</cp:revision>
  <dc:subject/>
  <dc:title>Sin título de diapositiva</dc:title>
</cp:coreProperties>
</file>