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E04-BA00-42EB-B97D-8CF59525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B5B-7A5D-4C8D-B42D-FC8E7EA1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78D-5A17-4C5C-A2A2-10013889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395-13F8-47E4-9BF5-2B268636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33A-AFFE-48DB-A2FB-44AF1AA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6B1-3CC6-406C-8539-592F798A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49C-78B6-481A-A2EE-3E4CCF0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B61-325A-4DB1-8B57-A1705786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B7A-20A1-4099-AAF0-DFB9C3D4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474-C31B-46A5-B2F0-A014D941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B42-3A95-49EC-92F1-3323C52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0E2-E837-4D18-9B37-1EFF73E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228-EAEE-44E3-BF35-31A7E5D2B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2760" y="482760"/>
          <a:ext cx="835020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35020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4200" y="519120"/>
          <a:ext cx="81151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1151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568440"/>
          <a:ext cx="84726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68440"/>
                    <a:ext cx="8472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81040"/>
          <a:ext cx="83502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502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469800"/>
          <a:ext cx="8510760" cy="624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69800"/>
                    <a:ext cx="8510760" cy="62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93640"/>
          <a:ext cx="83250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93640"/>
                    <a:ext cx="83250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7480" y="531720"/>
          <a:ext cx="801540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0154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3869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3869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544680"/>
          <a:ext cx="84250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44680"/>
                    <a:ext cx="84250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43040" y="568440"/>
          <a:ext cx="822492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22492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495360"/>
          <a:ext cx="84992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95360"/>
                    <a:ext cx="84992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407880"/>
          <a:ext cx="848700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8700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5936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936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2760" y="433440"/>
          <a:ext cx="8510400" cy="724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1040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568440"/>
          <a:ext cx="857268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68440"/>
                    <a:ext cx="85726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48276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8-04T17:22:52Z</cp:lastPrinted>
  <dcterms:modified xsi:type="dcterms:W3CDTF">2006-08-07T19:52:27Z</dcterms:modified>
  <cp:revision>19</cp:revision>
  <dc:subject/>
  <dc:title>Sin título de diapositiva</dc:title>
</cp:coreProperties>
</file>