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6996-6F63-40D6-A171-CD5292DDE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8027-1486-464D-923A-A0EDB01FE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B20C-5FBF-4147-8767-C5F7F36AB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4D67-B213-4E34-970F-2B2FF35A4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21B3-5ACC-4ED0-9AA7-8D27DA7F9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189D-A8B4-4361-A688-AD1E33631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7D11-C295-4951-A395-EC44CD4CA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100C-A75E-4416-A80F-5E24D2EA0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0E77-7051-406D-8161-2D87D7EED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19F4-7301-424D-B9E7-BAAB8B38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2268-13BE-4244-AECD-EC037C93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581F-AD0B-4543-B794-A0D325FF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A34A8-D48B-48FE-94DB-0D1B073CC0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54200" y="482760"/>
          <a:ext cx="7756560" cy="6271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482760"/>
                    <a:ext cx="7756560" cy="62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965160" y="743040"/>
          <a:ext cx="7792920" cy="549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743040"/>
                    <a:ext cx="7792920" cy="54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544680" y="668160"/>
          <a:ext cx="8350200" cy="586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668160"/>
                    <a:ext cx="8350200" cy="586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692280" y="495360"/>
          <a:ext cx="8065800" cy="620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495360"/>
                    <a:ext cx="8065800" cy="62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06600" y="457200"/>
          <a:ext cx="8324640" cy="622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457200"/>
                    <a:ext cx="8324640" cy="62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792000" y="593640"/>
          <a:ext cx="7917120" cy="575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593640"/>
                    <a:ext cx="7917120" cy="575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717480" y="593640"/>
          <a:ext cx="786780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593640"/>
                    <a:ext cx="786780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841320" y="681120"/>
          <a:ext cx="7978680" cy="545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681120"/>
                    <a:ext cx="7978680" cy="54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68160" y="519120"/>
          <a:ext cx="818856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519120"/>
                    <a:ext cx="818856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19120" y="568440"/>
          <a:ext cx="8386920" cy="596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568440"/>
                    <a:ext cx="838692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853920" y="5257800"/>
          <a:ext cx="7310520" cy="407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3920" y="5257800"/>
                    <a:ext cx="73105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519120" y="544680"/>
          <a:ext cx="8412120" cy="603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544680"/>
                    <a:ext cx="8412120" cy="60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79400" y="557280"/>
          <a:ext cx="7953480" cy="620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557280"/>
                    <a:ext cx="7953480" cy="62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3T12:47:56Z</dcterms:created>
  <dc:creator>jalvarez</dc:creator>
  <dc:description/>
  <dc:language>en-US</dc:language>
  <cp:lastModifiedBy>jalvarez</cp:lastModifiedBy>
  <cp:lastPrinted>2006-08-02T20:43:56Z</cp:lastPrinted>
  <dcterms:modified xsi:type="dcterms:W3CDTF">2006-08-04T14:31:48Z</dcterms:modified>
  <cp:revision>12</cp:revision>
  <dc:subject/>
  <dc:title>Sin título de diapositiva</dc:title>
</cp:coreProperties>
</file>