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CCD6-9348-46D1-8FD5-B2D9F5CA6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2D5F-6001-4275-91EE-B07C6A4D7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4199-EEA2-4954-AB90-DBC889CAD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32F8-4D99-4B9A-A026-FC2402986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F2A9-A2A0-4A4B-B67C-F9DD7286A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6F4D-3CBF-4F6E-9BE0-76629E7EB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1E76-D1E5-43E2-87F1-75F2303D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34A9-E8FF-4CE0-BB2B-A91DE94E2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5018-DA14-4FFC-AE14-F9CA15826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4102-F1A7-4D6C-81E6-BC198FF0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1CE0-F1DD-4E9E-9ACA-B006A2DE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311A-52F8-48E5-AFA7-9A11623E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994D7-1220-4BED-910E-E32994F41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35080" y="322200"/>
          <a:ext cx="8634240" cy="6270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080" y="322200"/>
                    <a:ext cx="8634240" cy="627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30360" y="531720"/>
          <a:ext cx="8350200" cy="633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31720"/>
                    <a:ext cx="8350200" cy="63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lase String: u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reemplazar todos los x por y en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reemplaz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,String y,String z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i=z.indexOf(x); if(i&lt;0)return z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z.substring(0,i) +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+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reemplaz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,y,z.substring(i+x.length()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obtener una respuesta “si” o “n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iN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ing r=U.leerString(x+” si o no?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.trim().toLowerCas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r.equals(“si”)||r.equals(“no”))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 :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iN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rch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copiar arch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BufferedReader I=new BufferedReader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ew FileReader(U.leerString(“input?”)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Writer O=new PrintWriter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ew FileWriter(U.leerString(“output?”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ing line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while((linea=I.readLine())!= nu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.println(line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.clos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.close(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eclado y Pantalla (Conso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U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BufferedReader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teclad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ew BufferedReader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ew InputStreamReader(System.in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String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leerString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ystem.out.print(x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teclado.readLin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leerInt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Integer.parseInt(leerString(x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Uso de objetos de una cl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Fracción más lejana (del promedi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 f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U.leerString(“nº/nº?”)), s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min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), max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), cero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n=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while(!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cero))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s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sumar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); ++n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f(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max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&gt;0) max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asigna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f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f(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min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&lt;0) min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asigna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f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asignar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U.leerString(“nº/nº?”)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s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dividi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new F(n)); //promed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System.out.println(“más lejana=“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max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rest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s)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compareT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s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rest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min))&gt;0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max : min)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to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) 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lase Fraccion (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 //en archivo F.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representacion: datos de un ob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a,b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constructores: inicializan ob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,int y){//”canónic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a=x; b=y; validar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){a=0; b=1;}//default 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F x){a=x.a; b=x.b;}//copy 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){a=x; b=1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asignar(x)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double x){...}//si x=4.5,a=45yb=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unciones públicas: un resultado (no modifican obje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selección, conversión y compar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numerador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{return a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denominador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{return b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{return a+”/”+b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toInt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{return a/b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toDouble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{return (double)a/b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boolean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 x){return a*x.b==b*x.a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 x){return a*x.b-b*x.a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operad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simple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m=U.mcd(a,b); return new F(a/m,b/m)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inverso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{return new F(b,a)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suma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 x){return new F(a*x.b+b*x.a,b*x.b)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resta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 x){return new F(a*x.b-b*x.a,b*x.b)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mult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 x){return new F(a*x.a,b*x.b)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div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 x){return new F(a*x.b,b*x.a)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rocedimientos (public void): modifican ob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modific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numerad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){a=x;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denominad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){b=x; validar()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operadores u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implific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){int m=U.mcd(a,b);a/=m;b/=m)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nverti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){int t=a; a=b; b=t; validar()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operadores bi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um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F x){a=a*x.b+b*x.a; b*=x.b;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rest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F x){a=a*x.b-b*x.a; b*=x.b)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multiplic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F x){a*=x.a; b*=x.b;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dividi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F x){a*=x.b; b*=x.a; validar()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ont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asig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public void asign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F x){a=x.a; b=x.b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public void asign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i=x.indexOf(“/”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i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&lt;0){a=Integer.parseInt(x);b=1;return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a=Integer.parseInt(x.substring(0,i)); b=Integer.parseInt(x.substring(i+1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validar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//métodos internos (de servic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privat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valida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(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if(b==0) U.abortar(“denominador cero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}//fin class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630360" y="519120"/>
          <a:ext cx="8362800" cy="592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19120"/>
                    <a:ext cx="8362800" cy="59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sign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8294760" cy="56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aiz=(-b+Math.sqrt(b*b-4*a*c))/(2*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int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variable=expresió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emán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valuar expresión (resultado de tipo int o dou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signar resultado (salvo si variable int y exp dou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 igual precedencia, evaluación de izq a 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éntesis confirman o modifican orden de evalu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operadores de distinto tipo, entonces resultado dou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ici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tipo variable=expresión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onstantes simbólicas: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final tipo var=expr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506520" y="568440"/>
          <a:ext cx="8388360" cy="600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568440"/>
                    <a:ext cx="8388360" cy="60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1768320" y="3079800"/>
          <a:ext cx="5505480" cy="66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8320" y="3079800"/>
                    <a:ext cx="55054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384120" y="495360"/>
          <a:ext cx="8224920" cy="59245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4120" y="495360"/>
                    <a:ext cx="8224920" cy="592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395280" y="446040"/>
          <a:ext cx="8288280" cy="733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46040"/>
                    <a:ext cx="8288280" cy="733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384120" y="457200"/>
          <a:ext cx="8373960" cy="592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457200"/>
                    <a:ext cx="8373960" cy="59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384120" y="322200"/>
          <a:ext cx="8361360" cy="620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322200"/>
                    <a:ext cx="8361360" cy="620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304920"/>
            <a:ext cx="8001000" cy="60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ndicación Tarea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onju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otected String 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onjunt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=“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recorrer todos los caracte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for(int i=0;i&lt;x.length();++i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ing c=x.substring(i,i+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añadir los que no est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s.indexOf(c)&lt;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+=c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un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az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,int y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 + (int)(Math.random()*(y-x+1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Uso(invocació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azar(1,6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lase.nombre(argumen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lase se omite si función está en misma cl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emán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piar argumentos en paráme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jecutar instru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volver valor de exp de inst 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elección de 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a%4==0 &amp;&amp; a%100!=0 || a%400==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.println(“366 dias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.println(“365 dias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int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condición) inst1;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inst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emán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cond es true entonces realizar inst1; si es false inst2 (opci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elecció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últiple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(ejecutar una inst entre n opcio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cond1) inst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 if(cond2) inst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 inst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dición(expresión boole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0. Operador ! (n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 Expresiones aritmé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. Operadores comparación (&lt;, &lt;=,&gt;,&gt;=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. Operadores de igualdad (==, !=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. Operador &amp;&amp; (true si ambos tr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. Operador || (true si alguno tr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Tipo boo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boolean b=false;//variable, cte y asig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b=bisiesto(2006);//invocación fu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b) dias=366; else dias=365; //u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boolean bisiesto(int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%4==0 &amp;&amp; x%100!=0 || x%400==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20840" y="606600"/>
          <a:ext cx="8288280" cy="573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606600"/>
                    <a:ext cx="828828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cur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potencia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double x,int y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x==0&amp;&amp;y==0) U.abortar(“potencia(0,0)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y==0) return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y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&lt;0) return 1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potenci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(x,-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double p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potenci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(x,y/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if(y%2==0) return p*p; else return x*p*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l menos un caso base que devuelve resul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lamadas recursivas convergen a caso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Operadores espe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asignación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resultado: valor asigna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ns,n,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0; //s=(n=(c=0)); asoc der a iz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while((n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.readInt())!=0) //menor prior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.println(“promedio=“+(s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+n)/(c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+1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asignación aritmé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.println(“promedio=“+(s+=n)/(c+=1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ncremento y decre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++var --var (var++ y var--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devuelven valor prev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xpresión condi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 =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&gt;b ? a : b;//cond? exp1: ex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fac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(int x){return x==0? 1: x*fact(x-1)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nstrucciones espe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i=1; i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&lt;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=n; ++i){...}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for(inst1;cond;inst2){insrucciones}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inst1; while(co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){...; inst2;}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switch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(C.readInt()%10){//para int y ch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case 0: C.print(“cero”); break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case 8: C.print(“ocho”); brea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default: C.print(“nueve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oma el mismo tiempo elegir cualquier ca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rop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. String enPalabras(int x) //x: entero positivo de dos díg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j: enPalabras(78) entrega “setenta y och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3T13:16:51Z</dcterms:created>
  <dc:creator> iara</dc:creator>
  <dc:description/>
  <dc:language>en-US</dc:language>
  <cp:lastModifiedBy>jalvarez</cp:lastModifiedBy>
  <cp:lastPrinted>2006-04-25T18:59:03Z</cp:lastPrinted>
  <dcterms:modified xsi:type="dcterms:W3CDTF">2006-04-26T19:01:23Z</dcterms:modified>
  <cp:revision>19</cp:revision>
  <dc:subject/>
  <dc:title>Diapositiva 1</dc:title>
</cp:coreProperties>
</file>