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8D2-1809-4AE3-9A80-29EA0449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9A3-C359-4A3A-BB7A-D43EE4CF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A313-8F2A-4498-A8E3-4F8488FC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F52-E800-402F-B608-1EFAC6F1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8EA-A229-4A7C-911C-3E5F513B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097-0A3B-41B6-8BFB-B5279931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DA75-A88B-4619-B847-54AFC25C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C424-DCB6-48D3-A2FB-F44548A6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024-AAD4-45F5-B5D4-2AAE3634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972-FD1E-4BF6-A606-8E8D9FFE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8C7A-765D-4DA4-98CF-D3C57BEC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001-B382-4E58-8F75-51950FA6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EB5F-7B92-4E4E-928A-5740C2FD0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5080" y="322200"/>
          <a:ext cx="8634240" cy="627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322200"/>
                    <a:ext cx="8634240" cy="627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30360" y="531720"/>
          <a:ext cx="835020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31720"/>
                    <a:ext cx="83502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lase String: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emplazar todos los x por y en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,String y,String z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z.indexOf(x); if(i&lt;0)return 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.substring(0,i) +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,z.substring(i+x.length(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leerString(x+” si o no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pi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ufferedReader I=new BufferedRead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Reader(U.leerString(“input?”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Writer O=new PrintWrit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Writer(U.leerString(“output?”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.close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clado y Pantalla (Cons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ufferedReader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ecl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BufferedRead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InputStreamReader(System.in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leerString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ystem.out.print(x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teclado.readLin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lee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teger.parseInt(leerString(x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leerString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leerString(“nº/nº?”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“más lejana=“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lase Fraccion (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//en archivo F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resentacion: datos de un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,b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nstructores: inicializan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//”canónic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x; b=y; valid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a=0; b=1;}//default 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//copy 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 b=1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asignar(x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){...}//si x=4.5,a=45yb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iones públicas: un resultado (no modifican obje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selección, conversión y compa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+”/”+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In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/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Doub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(double)a/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a*x.b==b*x.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a*x.b-b*x.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per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imp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=U.mcd(a,b); return new F(a/m,b/m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new F(b,a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+b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rest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-b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ul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,b*x.a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cedimientos (public void): modifica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modif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b=x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u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mplif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m=U.mcd(a,b);a/=m;b/=m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t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t=a; a=b; b=t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bi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+b*x.a; b*=x.b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st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-b*x.a; b*=x.b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ultipl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a; b*=x.b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vid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b; b*=x.a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n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x.indexOf(“/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{a=Integer.parseInt(x);b=1;return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a=Integer.parseInt(x.substring(0,i)); b=Integer.parseInt(x.substring(i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//métodos internos (de servi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b==0) U.abortar(“denominador cer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//fin class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30360" y="519120"/>
          <a:ext cx="836280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19120"/>
                    <a:ext cx="836280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iz=(-b+Math.sqrt(b*b-4*a*c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=expresió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r expresión (resultado de tipo int o dou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ignar resultado (salvo si variable int y exp dou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igual precedencia, evaluación de izq a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éntesis confirman o modifican orden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operadores de distinto tipo, entonces resultado 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ici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ipo variable=expresió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onstantes simbólicas: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inal tipo var=exp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06520" y="568440"/>
          <a:ext cx="838836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68440"/>
                    <a:ext cx="838836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768320" y="3079800"/>
          <a:ext cx="5505480" cy="66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3079800"/>
                    <a:ext cx="5505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84120" y="495360"/>
          <a:ext cx="8224920" cy="5924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120" y="495360"/>
                    <a:ext cx="822492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95280" y="446040"/>
          <a:ext cx="8288280" cy="73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288280" cy="73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84120" y="457200"/>
          <a:ext cx="837396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57200"/>
                    <a:ext cx="83739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84120" y="322200"/>
          <a:ext cx="836136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22200"/>
                    <a:ext cx="836136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304920"/>
            <a:ext cx="8001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dicación Tare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otected String 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jun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=“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correr todos los caract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or(int i=0;i&lt;x.length();++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c=x.substring(i,i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ñadir los que no est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s.indexOf(c)&lt;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+=c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so(invocació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azar(1,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e.nombre(argu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 se omite si función está en mis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piar argumentos en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cutar 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volver valor de exp de inst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lección de 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%4==0 &amp;&amp; a%100!=0 || a%400=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366 dia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365 dia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condición) inst1;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nst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cond es true entonces realizar inst1; si es false inst2 (op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lec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últip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ejecutar una inst entre n op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cond1) inst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if(cond2) inst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inst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dición(expresión boole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. Operador ! (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 Expresiones aritm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Operadores comparación (&lt;, &lt;=,&gt;,&gt;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Operadores de igualdad (==, !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 Operador &amp;&amp; (true si ambos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 Operador || (true si alguno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ipo 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oolean b=false;//variable, cte y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=bisiesto(2006);//invocación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b) dias=366; else dias=365; //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bisiesto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20840" y="606600"/>
          <a:ext cx="828828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606600"/>
                    <a:ext cx="828828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cu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0&amp;&amp;y==0) U.abortar(“potencia(0,0)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==0)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 return 1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-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ouble p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y/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y%2==0) return p*p; else return x*p*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 menos un caso base que devuelv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lamadas recursivas convergen a 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peradore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ignac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resultado: valor asig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s,n,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0; //s=(n=(c=0)); asoc der a iz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readInt())!=0) //menor pri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promedio=“+(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+n)/(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ignación aritm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promedio=“+(s+=n)/(c+=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cremento y decre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+var --var (var++ y var--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vuelven valor prev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xpresión con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b ? a : b;//cond? exp1: ex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f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return x==0? 1: x*fact(x-1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struccione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=1; 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=n; ++i){...}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or(inst1;cond;inst2){insrucciones}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inst1; while(co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){...; inst2;}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C.readInt()%10){//para int y 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ase 0: C.print(“cero”); break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ase 8: C.print(“ocho”);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fault: C.print(“nueve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oma el mismo tiempo elegir cualquier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String enPalabras(int x) //x: entero positivo de dos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j: enPalabras(78) entrega “setenta y och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6-04-26T19:01:23Z</dcterms:modified>
  <cp:revision>19</cp:revision>
  <dc:subject/>
  <dc:title>Diapositiva 1</dc:title>
</cp:coreProperties>
</file>