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8B5-2BE8-4885-993D-32F54B64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5F1-F229-4322-878A-D4D03A2A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104-A6EB-49FA-81EC-DA1270EE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D49-CED3-45D0-9314-CF082A20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219-F887-41C3-9B0A-7F0B24F1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142-9587-4180-BBFB-47B5447D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633-1318-4C71-AC34-FEE91F46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D49-1B7D-4C26-97E3-2892A9A7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AC1-BF6E-4DD7-82F9-168C413A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3C2-DADF-444F-8695-2F5953F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507-5B6C-4764-A414-037B9D43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F4A-F864-4ADD-8B9D-B3076EA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14C2-774F-428B-AB1A-6AC00E7A3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5080" y="322200"/>
          <a:ext cx="863424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2200"/>
                    <a:ext cx="86342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31720"/>
          <a:ext cx="83502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31720"/>
                    <a:ext cx="83502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String: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if(i&lt;0)return 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leerString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leerString(“input?”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leerString(“output?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.clos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clado y Pantalla (Cons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ystem.out.print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leerString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“más lejana=“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y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públicas: un resultado (no modifican 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elección, conversión y com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==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-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+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-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,b*x.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30360" y="519120"/>
          <a:ext cx="83628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19120"/>
                    <a:ext cx="83628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(-b+Math.sqrt(b*b-4*a*c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r expresión (resultado de tipo int o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ignar resultado (salvo si variable int y exp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igual precedencia, evaluación de izq a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éntesis confirman o modifican orden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operadores de distinto tipo, entonces resultado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ipo variable=expresió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onstantes simbólicas: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inal tipo var=ex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6520" y="568440"/>
          <a:ext cx="83883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68440"/>
                    <a:ext cx="83883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68320" y="3079800"/>
          <a:ext cx="5505480" cy="66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079800"/>
                    <a:ext cx="5505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4120" y="495360"/>
          <a:ext cx="8224920" cy="592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495360"/>
                    <a:ext cx="822492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446040"/>
          <a:ext cx="8288280" cy="73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28828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4120" y="457200"/>
          <a:ext cx="837396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739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84120" y="322200"/>
          <a:ext cx="8361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22200"/>
                    <a:ext cx="8361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04920"/>
            <a:ext cx="8001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ción T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otected String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correr todos los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t i=0;i&lt;x.length();++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c=x.substring(i,i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ñadir los que no 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s.indexOf(c)&lt;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=c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(invocac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azar(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e.nombre(arg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 se omite si función está en mis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iar argumentos 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cutar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volver valor de exp de ins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lección de 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%4==0 &amp;&amp; a%100!=0 || a%400=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6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5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condición) inst1;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cond es true entonces realizar inst1; si es false inst2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últip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jecutar una inst entre n op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cond1) inst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f(cond2)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nst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dición(expresión boo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. Operador ! (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Expresion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Operadores comparación (&lt;, &lt;=,&gt;,&gt;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Operadores de igualdad (==, !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Operador &amp;&amp; (true si ambo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Operador || (true si alguno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oolean b=false;//variable, cte y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bisiesto(2006);//invocación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) dias=366; else dias=365; //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bisiest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606600"/>
          <a:ext cx="82882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606600"/>
                    <a:ext cx="82882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u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0&amp;&amp;y==0) U.abortar(“potencia(0,0)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menos un caso base que devuelv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lamadas recursivas convergen a 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resultado: valor asig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s,n,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0; //s=(n=(c=0)); asoc der a iz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readInt())!=0) //menor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n)/(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+=n)/(c+=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cremento y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var --var (var++ y var-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vuelven valor prev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ón con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b ? a : b;//cond? exp1: ex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return x==0? 1: x*fact(x-1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=1;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n; ++i){...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st1;cond;inst2){insrucciones}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inst1; while(co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{...; inst2;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C.readInt()%10){//para int y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0: C.print(“cero”); brea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8: C.print(“ocho”)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ault: C.print(“nuev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a el mismo tiempo elegir cualquier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String enPalabras(int x) //x: entero positivo de dos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j: enPalabras(78) entrega “setenta y oc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6-04-26T19:01:23Z</dcterms:modified>
  <cp:revision>19</cp:revision>
  <dc:subject/>
  <dc:title>Diapositiva 1</dc:title>
</cp:coreProperties>
</file>