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89B-EC59-4E84-89C4-8DA80341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32B5-2C33-42D0-A15D-0B8583C3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55A3-24AD-435E-A101-83AE9F78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0F98-C235-474C-977C-F12271DD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483-B64A-45A8-8A29-849AE6E2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4499-7C69-45F7-844D-530F7226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90B-FA81-482A-AA25-BD3A0AD0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419-5F00-4378-A49B-3AF260CA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FF53-7B0D-4AF9-B890-5669D2DA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386-17E4-487B-AA81-799B5E94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69D1-5A55-4FB3-AA96-A81A4962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0B7-854D-423F-8DB1-6C404A97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31FC-8919-42CA-8B73-AF22C1227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1120" y="568440"/>
          <a:ext cx="8163000" cy="59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568440"/>
                    <a:ext cx="8163000" cy="59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57280" y="482760"/>
          <a:ext cx="8410680" cy="592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82760"/>
                    <a:ext cx="8410680" cy="59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681120" y="619200"/>
          <a:ext cx="8262720" cy="606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19200"/>
                    <a:ext cx="8262720" cy="60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68440" y="495360"/>
          <a:ext cx="838836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95360"/>
                    <a:ext cx="83883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19200" y="531720"/>
          <a:ext cx="78296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31720"/>
                    <a:ext cx="78296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69800" y="531720"/>
          <a:ext cx="8201160" cy="578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31720"/>
                    <a:ext cx="8201160" cy="578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97000" y="495360"/>
          <a:ext cx="865980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495360"/>
                    <a:ext cx="865980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19200" y="544680"/>
          <a:ext cx="83120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44680"/>
                    <a:ext cx="83120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85760" y="495360"/>
          <a:ext cx="886932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495360"/>
                    <a:ext cx="886932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222120" y="531720"/>
          <a:ext cx="85107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531720"/>
                    <a:ext cx="85107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82760" y="519120"/>
          <a:ext cx="832464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19120"/>
                    <a:ext cx="832464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57280" y="407880"/>
          <a:ext cx="826272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07880"/>
                    <a:ext cx="826272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95360" y="581040"/>
          <a:ext cx="8200800" cy="58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581040"/>
                    <a:ext cx="8200800" cy="58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768320" y="2165400"/>
          <a:ext cx="5529240" cy="249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165400"/>
                    <a:ext cx="552924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97000" y="457200"/>
          <a:ext cx="8597880" cy="6556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000" y="457200"/>
                    <a:ext cx="859788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45960" y="457200"/>
          <a:ext cx="868392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457200"/>
                    <a:ext cx="86839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82760" y="519120"/>
          <a:ext cx="841212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19120"/>
                    <a:ext cx="841212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7000" y="469800"/>
          <a:ext cx="859788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469800"/>
                    <a:ext cx="859788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17480" y="557280"/>
          <a:ext cx="801540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57280"/>
                    <a:ext cx="801540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19200" y="395280"/>
          <a:ext cx="831204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395280"/>
                    <a:ext cx="831204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828800" y="1447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5800" y="339840"/>
          <a:ext cx="8139240" cy="65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9840"/>
                    <a:ext cx="8139240" cy="65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81120" y="606600"/>
          <a:ext cx="8163000" cy="60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06600"/>
                    <a:ext cx="816300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34880" y="587520"/>
          <a:ext cx="8275680" cy="568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587520"/>
                    <a:ext cx="8275680" cy="56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81120" y="816120"/>
          <a:ext cx="7804080" cy="57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816120"/>
                    <a:ext cx="7804080" cy="57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76200" y="358920"/>
          <a:ext cx="8393040" cy="61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358920"/>
                    <a:ext cx="8393040" cy="61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8:53:10Z</dcterms:created>
  <dc:creator>jalvarez</dc:creator>
  <dc:description/>
  <dc:language>en-US</dc:language>
  <cp:lastModifiedBy>jalvarez</cp:lastModifiedBy>
  <cp:lastPrinted>2006-10-14T18:20:02Z</cp:lastPrinted>
  <dcterms:modified xsi:type="dcterms:W3CDTF">2006-10-16T16:30:07Z</dcterms:modified>
  <cp:revision>16</cp:revision>
  <dc:subject/>
  <dc:title>Sin título de diapositiva</dc:title>
</cp:coreProperties>
</file>