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0A8A-0C03-4B96-A8BA-BACBAF40A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FBE4-C3C6-4593-98CD-79A5EC90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CEF6-04D5-4592-B867-9FE3735C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E6E7-E5BA-4968-A2EB-D7F18FB6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1537-5D0B-46A3-8834-26BC96BF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CCE1-7C2E-47AC-94D9-AA0B6AB3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B60A-C6A8-43C2-81CD-E416F4B6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CD75-8F77-4202-9C39-DDBCEAAF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D47E-7385-4B89-B9E0-B8A96BD5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2A90-5DE4-421E-8F93-EEE74F92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369E-2939-4AB6-96CB-29D0D2DB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300D-D0A3-44A1-9E25-B57E0AAF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8C9E-2E12-4528-8860-11E3FE478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1120" y="568440"/>
          <a:ext cx="8163000" cy="59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568440"/>
                    <a:ext cx="8163000" cy="59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57280" y="482760"/>
          <a:ext cx="8410680" cy="592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482760"/>
                    <a:ext cx="8410680" cy="59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681120" y="619200"/>
          <a:ext cx="8262720" cy="606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619200"/>
                    <a:ext cx="8262720" cy="606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68440" y="495360"/>
          <a:ext cx="838836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495360"/>
                    <a:ext cx="83883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19200" y="531720"/>
          <a:ext cx="782964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531720"/>
                    <a:ext cx="782964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69800" y="531720"/>
          <a:ext cx="8201160" cy="578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31720"/>
                    <a:ext cx="8201160" cy="578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297000" y="495360"/>
          <a:ext cx="8659800" cy="62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495360"/>
                    <a:ext cx="8659800" cy="62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19200" y="544680"/>
          <a:ext cx="831204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544680"/>
                    <a:ext cx="831204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85760" y="495360"/>
          <a:ext cx="886932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60" y="495360"/>
                    <a:ext cx="886932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222120" y="531720"/>
          <a:ext cx="851076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120" y="531720"/>
                    <a:ext cx="851076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82760" y="519120"/>
          <a:ext cx="8324640" cy="595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19120"/>
                    <a:ext cx="832464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57280" y="407880"/>
          <a:ext cx="8262720" cy="606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407880"/>
                    <a:ext cx="8262720" cy="606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95360" y="581040"/>
          <a:ext cx="8200800" cy="588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581040"/>
                    <a:ext cx="8200800" cy="58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768320" y="2165400"/>
          <a:ext cx="5529240" cy="249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165400"/>
                    <a:ext cx="5529240" cy="24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297000" y="457200"/>
          <a:ext cx="8597880" cy="6556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000" y="457200"/>
                    <a:ext cx="8597880" cy="65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345960" y="457200"/>
          <a:ext cx="8683920" cy="61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457200"/>
                    <a:ext cx="868392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482760" y="519120"/>
          <a:ext cx="841212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19120"/>
                    <a:ext cx="841212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97000" y="469800"/>
          <a:ext cx="8597880" cy="63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469800"/>
                    <a:ext cx="8597880" cy="63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17480" y="557280"/>
          <a:ext cx="801540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557280"/>
                    <a:ext cx="801540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19200" y="395280"/>
          <a:ext cx="8312040" cy="630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395280"/>
                    <a:ext cx="831204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828800" y="1447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85800" y="339840"/>
          <a:ext cx="8139240" cy="651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39840"/>
                    <a:ext cx="8139240" cy="65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81120" y="606600"/>
          <a:ext cx="8163000" cy="603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606600"/>
                    <a:ext cx="8163000" cy="60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434880" y="587520"/>
          <a:ext cx="8275680" cy="568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587520"/>
                    <a:ext cx="8275680" cy="56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81120" y="816120"/>
          <a:ext cx="7804080" cy="575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816120"/>
                    <a:ext cx="7804080" cy="57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76200" y="358920"/>
          <a:ext cx="8393040" cy="614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358920"/>
                    <a:ext cx="8393040" cy="61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8:53:10Z</dcterms:created>
  <dc:creator>jalvarez</dc:creator>
  <dc:description/>
  <dc:language>en-US</dc:language>
  <cp:lastModifiedBy>jalvarez</cp:lastModifiedBy>
  <cp:lastPrinted>2006-10-14T18:20:02Z</cp:lastPrinted>
  <dcterms:modified xsi:type="dcterms:W3CDTF">2006-10-16T16:30:07Z</dcterms:modified>
  <cp:revision>16</cp:revision>
  <dc:subject/>
  <dc:title>Sin título de diapositiva</dc:title>
</cp:coreProperties>
</file>