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3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4.wmf" ContentType="image/x-wmf"/>
  <Override PartName="/ppt/media/image2.wmf" ContentType="image/x-wmf"/>
  <Override PartName="/ppt/media/image2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D9883-18FA-48CB-BFCE-A70D2972C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BB1D1-CB60-44C9-912E-E3DD7DEBA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1AB5A-3F08-49A6-899F-CFAF5B818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34D17-7632-4D08-8C12-81DB76266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0E182-A3BB-40C7-9E9B-FB56F0756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597FF-347A-42DE-981D-A3B040EF3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C4C30-4408-481F-93D6-8633DDBA3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27FE8-DA3F-4CA6-9004-78365EBEC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DD27E-A872-440D-BC45-831E718B1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BC7C1-EA6E-4EC7-81DB-B9D50FDE6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69384-CF30-4C68-AAAF-3140B64A8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7847E-A191-4A88-8FC9-C652B5A9E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15DA8-E9B1-46A0-8F2E-9056D6CF67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81120" y="568440"/>
          <a:ext cx="8163000" cy="5938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1120" y="568440"/>
                    <a:ext cx="8163000" cy="593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557280" y="482760"/>
          <a:ext cx="8410680" cy="5924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7280" y="482760"/>
                    <a:ext cx="8410680" cy="592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"/>
          <p:cNvGraphicFramePr/>
          <p:nvPr/>
        </p:nvGraphicFramePr>
        <p:xfrm>
          <a:off x="681120" y="619200"/>
          <a:ext cx="8262720" cy="6060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1120" y="619200"/>
                    <a:ext cx="8262720" cy="606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568440" y="495360"/>
          <a:ext cx="8388360" cy="6172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8440" y="495360"/>
                    <a:ext cx="8388360" cy="617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"/>
          <p:cNvGraphicFramePr/>
          <p:nvPr/>
        </p:nvGraphicFramePr>
        <p:xfrm>
          <a:off x="619200" y="531720"/>
          <a:ext cx="7829640" cy="5418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9200" y="531720"/>
                    <a:ext cx="7829640" cy="541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469800" y="531720"/>
          <a:ext cx="8201160" cy="5789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531720"/>
                    <a:ext cx="8201160" cy="578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"/>
          <p:cNvGraphicFramePr/>
          <p:nvPr/>
        </p:nvGraphicFramePr>
        <p:xfrm>
          <a:off x="297000" y="495360"/>
          <a:ext cx="8659800" cy="6246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7000" y="495360"/>
                    <a:ext cx="8659800" cy="624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619200" y="544680"/>
          <a:ext cx="8312040" cy="5949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9200" y="544680"/>
                    <a:ext cx="8312040" cy="594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"/>
          <p:cNvGraphicFramePr/>
          <p:nvPr/>
        </p:nvGraphicFramePr>
        <p:xfrm>
          <a:off x="185760" y="495360"/>
          <a:ext cx="8869320" cy="6035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5760" y="495360"/>
                    <a:ext cx="8869320" cy="603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"/>
          <p:cNvGraphicFramePr/>
          <p:nvPr/>
        </p:nvGraphicFramePr>
        <p:xfrm>
          <a:off x="222120" y="531720"/>
          <a:ext cx="8510760" cy="6210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2120" y="531720"/>
                    <a:ext cx="8510760" cy="621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"/>
          <p:cNvGraphicFramePr/>
          <p:nvPr/>
        </p:nvGraphicFramePr>
        <p:xfrm>
          <a:off x="482760" y="519120"/>
          <a:ext cx="8324640" cy="5950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2760" y="519120"/>
                    <a:ext cx="8324640" cy="595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557280" y="407880"/>
          <a:ext cx="8262720" cy="6061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7280" y="407880"/>
                    <a:ext cx="8262720" cy="606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"/>
          <p:cNvGraphicFramePr/>
          <p:nvPr/>
        </p:nvGraphicFramePr>
        <p:xfrm>
          <a:off x="495360" y="581040"/>
          <a:ext cx="8200800" cy="5888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360" y="581040"/>
                    <a:ext cx="8200800" cy="588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" name=""/>
          <p:cNvGraphicFramePr/>
          <p:nvPr/>
        </p:nvGraphicFramePr>
        <p:xfrm>
          <a:off x="1768320" y="2165400"/>
          <a:ext cx="5529240" cy="2498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8320" y="2165400"/>
                    <a:ext cx="5529240" cy="249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" name=""/>
          <p:cNvGraphicFramePr/>
          <p:nvPr/>
        </p:nvGraphicFramePr>
        <p:xfrm>
          <a:off x="297000" y="457200"/>
          <a:ext cx="8597880" cy="65563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7000" y="457200"/>
                    <a:ext cx="8597880" cy="655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6" name=""/>
          <p:cNvGraphicFramePr/>
          <p:nvPr/>
        </p:nvGraphicFramePr>
        <p:xfrm>
          <a:off x="345960" y="457200"/>
          <a:ext cx="8683920" cy="6148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5960" y="457200"/>
                    <a:ext cx="8683920" cy="614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8" name=""/>
          <p:cNvGraphicFramePr/>
          <p:nvPr/>
        </p:nvGraphicFramePr>
        <p:xfrm>
          <a:off x="482760" y="519120"/>
          <a:ext cx="8412120" cy="5877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2760" y="519120"/>
                    <a:ext cx="8412120" cy="587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0" name=""/>
          <p:cNvGraphicFramePr/>
          <p:nvPr/>
        </p:nvGraphicFramePr>
        <p:xfrm>
          <a:off x="297000" y="469800"/>
          <a:ext cx="8597880" cy="6334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7000" y="469800"/>
                    <a:ext cx="8597880" cy="633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717480" y="557280"/>
          <a:ext cx="8015400" cy="5875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7480" y="557280"/>
                    <a:ext cx="8015400" cy="587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619200" y="395280"/>
          <a:ext cx="8312040" cy="6308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9200" y="395280"/>
                    <a:ext cx="8312040" cy="630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"/>
          <p:cNvSpPr/>
          <p:nvPr/>
        </p:nvSpPr>
        <p:spPr>
          <a:xfrm>
            <a:off x="1828800" y="1447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685800" y="339840"/>
          <a:ext cx="8139240" cy="6518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339840"/>
                    <a:ext cx="8139240" cy="651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"/>
          <p:cNvGraphicFramePr/>
          <p:nvPr/>
        </p:nvGraphicFramePr>
        <p:xfrm>
          <a:off x="681120" y="606600"/>
          <a:ext cx="8163000" cy="6035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1120" y="606600"/>
                    <a:ext cx="8163000" cy="603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434880" y="587520"/>
          <a:ext cx="8275680" cy="5684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4880" y="587520"/>
                    <a:ext cx="8275680" cy="568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681120" y="816120"/>
          <a:ext cx="7804080" cy="5752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1120" y="816120"/>
                    <a:ext cx="7804080" cy="57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"/>
          <p:cNvGraphicFramePr/>
          <p:nvPr/>
        </p:nvGraphicFramePr>
        <p:xfrm>
          <a:off x="376200" y="358920"/>
          <a:ext cx="8393040" cy="6141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6200" y="358920"/>
                    <a:ext cx="8393040" cy="614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1T18:53:10Z</dcterms:created>
  <dc:creator>jalvarez</dc:creator>
  <dc:description/>
  <dc:language>en-US</dc:language>
  <cp:lastModifiedBy>jalvarez</cp:lastModifiedBy>
  <cp:lastPrinted>2006-10-14T18:20:02Z</cp:lastPrinted>
  <dcterms:modified xsi:type="dcterms:W3CDTF">2006-10-16T16:30:07Z</dcterms:modified>
  <cp:revision>16</cp:revision>
  <dc:subject/>
  <dc:title>Sin título de diapositiva</dc:title>
</cp:coreProperties>
</file>