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1EF5-8418-4B2E-AC91-BE8F748D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3F4C-388F-4D09-B5E9-4E847372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29E1-C2F3-4137-87E8-CEC3B92D2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03A1-2266-4581-B574-063C9C7C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16A4-2CD5-41AA-BBBE-1AE7329E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999B-BDCA-43AB-87D6-E16BAA00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F0A2-69F6-4DF7-8524-17F5A59A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C910-9B25-487D-BF93-5DBE92DA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9627-25F3-4500-B157-313D7FC7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5D94-D7BD-41FA-AA9A-805D506B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03C0-F8B3-449F-AD0B-6845EEDA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D694-67DC-46C4-ADAA-0EE5DC90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F654-A51D-4DE8-BDD9-026DFFA33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68440" y="495360"/>
          <a:ext cx="8288280" cy="58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495360"/>
                    <a:ext cx="8288280" cy="58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68440" y="420840"/>
          <a:ext cx="8424720" cy="632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420840"/>
                    <a:ext cx="8424720" cy="63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95280" y="446040"/>
          <a:ext cx="8659800" cy="630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46040"/>
                    <a:ext cx="865980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1720" y="433440"/>
          <a:ext cx="8487000" cy="630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433440"/>
                    <a:ext cx="848700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865080" y="506520"/>
          <a:ext cx="792972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506520"/>
                    <a:ext cx="792972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95360" y="433440"/>
          <a:ext cx="8448480" cy="718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33440"/>
                    <a:ext cx="8448480" cy="718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55560" y="544680"/>
          <a:ext cx="8263080" cy="596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44680"/>
                    <a:ext cx="8263080" cy="59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93640" y="531720"/>
          <a:ext cx="813924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31720"/>
                    <a:ext cx="813924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704880" y="544680"/>
          <a:ext cx="831384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44680"/>
                    <a:ext cx="831384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84120" y="457200"/>
          <a:ext cx="8386920" cy="653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457200"/>
                    <a:ext cx="8386920" cy="65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06600" y="531720"/>
          <a:ext cx="835020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31720"/>
                    <a:ext cx="835020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41320" y="531720"/>
          <a:ext cx="765648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531720"/>
                    <a:ext cx="765648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95360" y="457200"/>
          <a:ext cx="855972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57200"/>
                    <a:ext cx="855972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68160" y="568440"/>
          <a:ext cx="8263080" cy="624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68440"/>
                    <a:ext cx="826308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06600" y="457200"/>
          <a:ext cx="828828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457200"/>
                    <a:ext cx="828828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905120" y="1371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82760" y="420840"/>
          <a:ext cx="8474040" cy="619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20840"/>
                    <a:ext cx="8474040" cy="61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19120" y="557280"/>
          <a:ext cx="8424720" cy="61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557280"/>
                    <a:ext cx="842472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06520" y="482760"/>
          <a:ext cx="8474040" cy="611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482760"/>
                    <a:ext cx="8474040" cy="61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7:26:19Z</dcterms:created>
  <dc:creator>jalvarez</dc:creator>
  <dc:description/>
  <dc:language>en-US</dc:language>
  <cp:lastModifiedBy>jalvarez</cp:lastModifiedBy>
  <cp:lastPrinted>2005-09-09T15:52:49Z</cp:lastPrinted>
  <dcterms:modified xsi:type="dcterms:W3CDTF">2006-09-12T17:27:59Z</dcterms:modified>
  <cp:revision>18</cp:revision>
  <dc:subject/>
  <dc:title>Sin título de diapositiva</dc:title>
</cp:coreProperties>
</file>