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6693-7C86-435D-837D-D7B1151E4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6E19-FFE0-4B2D-B995-F3E1DD012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9A4B-83D3-4F00-972E-2DC1E6434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BF95-7E2C-40DB-A9D9-FC9FA1528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2288-9DCC-43CE-BC63-EB4CC59C7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7E88-EC1B-416A-B2C9-9BC21389F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42AE-282D-4014-B919-EC41FB95A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A3E3-B16B-47EA-AD3E-FA2455AD6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C78C-9CDF-4DB2-890F-ABFB93FD5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69E2-87FF-4928-8706-6C8FA75FE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C02F-47AE-4233-B720-E8F8AC970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5F56-4A96-4CAE-99BF-3245DA8BA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21D22-DFB7-4662-A547-5D728305EE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568440" y="495360"/>
          <a:ext cx="8288280" cy="588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8440" y="495360"/>
                    <a:ext cx="8288280" cy="588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568440" y="420840"/>
          <a:ext cx="8424720" cy="6321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8440" y="420840"/>
                    <a:ext cx="8424720" cy="632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395280" y="446040"/>
          <a:ext cx="8659800" cy="6308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446040"/>
                    <a:ext cx="8659800" cy="630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531720" y="433440"/>
          <a:ext cx="8487000" cy="6308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1720" y="433440"/>
                    <a:ext cx="8487000" cy="630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865080" y="506520"/>
          <a:ext cx="7929720" cy="5753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506520"/>
                    <a:ext cx="7929720" cy="575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495360" y="433440"/>
          <a:ext cx="8448480" cy="7186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360" y="433440"/>
                    <a:ext cx="8448480" cy="718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655560" y="544680"/>
          <a:ext cx="8263080" cy="5962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5560" y="544680"/>
                    <a:ext cx="8263080" cy="59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593640" y="531720"/>
          <a:ext cx="8139240" cy="6234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3640" y="531720"/>
                    <a:ext cx="8139240" cy="62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704880" y="544680"/>
          <a:ext cx="8313840" cy="5862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544680"/>
                    <a:ext cx="8313840" cy="586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384120" y="457200"/>
          <a:ext cx="8386920" cy="6532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4120" y="457200"/>
                    <a:ext cx="8386920" cy="653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606600" y="531720"/>
          <a:ext cx="8350200" cy="5962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6600" y="531720"/>
                    <a:ext cx="8350200" cy="596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841320" y="531720"/>
          <a:ext cx="7656480" cy="5751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1320" y="531720"/>
                    <a:ext cx="7656480" cy="575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495360" y="457200"/>
          <a:ext cx="8559720" cy="6037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360" y="457200"/>
                    <a:ext cx="8559720" cy="603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668160" y="568440"/>
          <a:ext cx="8263080" cy="6248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8160" y="568440"/>
                    <a:ext cx="8263080" cy="624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606600" y="457200"/>
          <a:ext cx="8288280" cy="6370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6600" y="457200"/>
                    <a:ext cx="8288280" cy="637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1905120" y="13716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12193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482760" y="420840"/>
          <a:ext cx="8474040" cy="6197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760" y="420840"/>
                    <a:ext cx="8474040" cy="619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519120" y="557280"/>
          <a:ext cx="8424720" cy="6159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9120" y="557280"/>
                    <a:ext cx="8424720" cy="615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506520" y="482760"/>
          <a:ext cx="8474040" cy="6111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6520" y="482760"/>
                    <a:ext cx="8474040" cy="611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7:26:19Z</dcterms:created>
  <dc:creator>jalvarez</dc:creator>
  <dc:description/>
  <dc:language>en-US</dc:language>
  <cp:lastModifiedBy>jalvarez</cp:lastModifiedBy>
  <cp:lastPrinted>2005-09-09T15:52:49Z</cp:lastPrinted>
  <dcterms:modified xsi:type="dcterms:W3CDTF">2006-09-12T17:27:59Z</dcterms:modified>
  <cp:revision>18</cp:revision>
  <dc:subject/>
  <dc:title>Sin título de diapositiva</dc:title>
</cp:coreProperties>
</file>