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671-F35E-421B-BF8F-99CE4499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740-D434-412E-9B31-8CBD45AC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D30-3E60-4C25-85C1-F00FDF9D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78F-6903-4578-B06F-5391967B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E10-3DFC-41C8-8956-DF94436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F10-BE05-4389-B559-7111DF77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1D7-0F96-4DA8-B5B6-EA36FCD6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A6A-76A6-492B-A99B-07198F09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BF9-D7B1-4EF1-A86E-ED00C72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7EF-653C-4806-B954-3E51494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AB5-7B68-4BF3-A88D-F7600E8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B89-2462-445A-90B4-B4EC88F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585-82FD-433A-BE1B-123A43B06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68440" y="495360"/>
          <a:ext cx="828828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28828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6598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6598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433440"/>
          <a:ext cx="84870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33440"/>
                    <a:ext cx="8487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65080" y="506520"/>
          <a:ext cx="79297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06520"/>
                    <a:ext cx="79297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3440"/>
          <a:ext cx="8448480" cy="71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3440"/>
                    <a:ext cx="8448480" cy="71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44680"/>
          <a:ext cx="826308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26308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93640" y="531720"/>
          <a:ext cx="81392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81392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04880" y="544680"/>
          <a:ext cx="83138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31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84120" y="457200"/>
          <a:ext cx="838692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869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3172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41320" y="531720"/>
          <a:ext cx="765648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531720"/>
                    <a:ext cx="765648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559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59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68440"/>
          <a:ext cx="826308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68440"/>
                    <a:ext cx="8263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5720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90512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20840"/>
          <a:ext cx="84740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20840"/>
                    <a:ext cx="84740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57280"/>
          <a:ext cx="842472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57280"/>
                    <a:ext cx="84247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482760"/>
          <a:ext cx="84740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740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7:26:19Z</dcterms:created>
  <dc:creator>jalvarez</dc:creator>
  <dc:description/>
  <dc:language>en-US</dc:language>
  <cp:lastModifiedBy>jalvarez</cp:lastModifiedBy>
  <cp:lastPrinted>2005-09-09T15:52:49Z</cp:lastPrinted>
  <dcterms:modified xsi:type="dcterms:W3CDTF">2006-09-12T17:27:59Z</dcterms:modified>
  <cp:revision>18</cp:revision>
  <dc:subject/>
  <dc:title>Sin título de diapositiva</dc:title>
</cp:coreProperties>
</file>