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401-A611-4D64-BA20-B264D6F3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C91-E3FE-4271-8EC2-A0386DA5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6B6-E567-4C83-9826-2CCE6639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E2D-3695-4F3C-BBD7-02A4D6DB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3F9-0E4C-4E63-B202-83BC7AD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E8D-DE51-45E4-AEFF-C784396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939-D4A4-4EFB-88F6-D430CC1C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D3D-3AD2-461E-869F-74571165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891-A7C3-41F2-A467-738C4954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C0C-00C6-4C7D-9A9B-C9229A9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225-A8B0-47EA-BCCE-E489E88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BBD-0829-4E54-B0FC-3CEC700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C827-EF0B-4C10-B6A1-4C524972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68440" y="495360"/>
          <a:ext cx="828828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95360"/>
                    <a:ext cx="828828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6598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6598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433440"/>
          <a:ext cx="848700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33440"/>
                    <a:ext cx="8487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65080" y="506520"/>
          <a:ext cx="79297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506520"/>
                    <a:ext cx="79297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95360" y="433440"/>
          <a:ext cx="8448480" cy="71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3440"/>
                    <a:ext cx="8448480" cy="71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544680"/>
          <a:ext cx="826308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44680"/>
                    <a:ext cx="826308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93640" y="531720"/>
          <a:ext cx="81392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81392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04880" y="544680"/>
          <a:ext cx="83138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3138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84120" y="457200"/>
          <a:ext cx="8386920" cy="65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8692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3172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41320" y="531720"/>
          <a:ext cx="765648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531720"/>
                    <a:ext cx="765648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559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559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8160" y="568440"/>
          <a:ext cx="826308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68440"/>
                    <a:ext cx="8263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5720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5720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905120" y="1371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20840"/>
          <a:ext cx="847404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20840"/>
                    <a:ext cx="847404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9120" y="557280"/>
          <a:ext cx="842472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57280"/>
                    <a:ext cx="84247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6520" y="482760"/>
          <a:ext cx="84740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82760"/>
                    <a:ext cx="84740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7:26:19Z</dcterms:created>
  <dc:creator>jalvarez</dc:creator>
  <dc:description/>
  <dc:language>en-US</dc:language>
  <cp:lastModifiedBy>jalvarez</cp:lastModifiedBy>
  <cp:lastPrinted>2005-09-09T15:52:49Z</cp:lastPrinted>
  <dcterms:modified xsi:type="dcterms:W3CDTF">2006-09-12T17:27:59Z</dcterms:modified>
  <cp:revision>18</cp:revision>
  <dc:subject/>
  <dc:title>Sin título de diapositiva</dc:title>
</cp:coreProperties>
</file>