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50C2-8555-4B9E-86BC-2703AF68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743-21B1-4F0B-BD48-875F7713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F26-D695-4A30-86C9-90846C41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B7F1-3984-4555-9D68-4293C0A0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8A5F-C5AB-457E-8A4C-C70B2F44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6B2C-8CB2-49D5-ABD5-673EF8FE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4691-CD2F-402B-A6D9-D35D5020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933B-B0D8-4978-8A3A-ED5AFE70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7D97-B99F-4AA8-98FC-27AF5CA0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E510-F99D-4FBF-9915-47A338B7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6F77-15C3-4879-9A50-24667606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9B97-0F1E-4E13-9368-B3C83E35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4148-5562-46DD-9E8D-8FACD5939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35080" y="322200"/>
          <a:ext cx="8634240" cy="627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322200"/>
                    <a:ext cx="8634240" cy="627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30360" y="531720"/>
          <a:ext cx="8350200" cy="63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31720"/>
                    <a:ext cx="835020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lase String: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emplazar todos los x por y en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,String y,String z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i=z.indexOf(x); if(i&lt;0)return 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z.substring(0,i) +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,y,z.substring(i+x.length()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leerString(x+” si o no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piar 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ufferedReader I=new BufferedReader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Reader(U.leerString(“input?”)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Writer O=new PrintWriter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Writer(U.leerString(“output?”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linea=I.readLine())!= nu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println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clos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.close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clado y Pantalla (Cons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ufferedReader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eclad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BufferedReader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InputStreamReader(System.in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leerString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ystem.out.print(x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teclado.readLin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leerInt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teger.parseInt(leerString(x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o de objetos de una cl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racción más lejana (del promedi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f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leerString(“nº/nº?”)), s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in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max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cero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!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cero)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; ++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ax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gt;0) 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in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lt;0) min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sign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leerString(“nº/nº?”)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dividi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new F(n)); //promed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ln(“más lejana=“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in))&gt;0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max : min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) 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lase Fraccion (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 //en archivo F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presentacion: datos de un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,b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nstructores: inicializan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//”canónic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=x; b=y; valida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a=0; b=1;}//default 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x.a; b=x.b;}//copy 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a=x; b=1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asignar(x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double x){...}//si x=4.5,a=45yb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nciones públicas: un resultado (no modifican obje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selección, conversión y compa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numerado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a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denominado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a+”/”+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toInt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a/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toDouble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(double)a/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a*x.b==b*x.a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a*x.b-b*x.a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per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imple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m=U.mcd(a,b); return new F(a/m,b/m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new F(b,a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b+b*x.a,b*x.b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rest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b-b*x.a,b*x.b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ult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a,b*x.b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div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b,b*x.a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cedimientos (public void): modifica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modif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numer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a=x;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enomin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b=x; validar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peradores u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mplific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int m=U.mcd(a,b);a/=m;b/=m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ti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int t=a; a=b; b=t; validar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peradores bi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a*x.b+b*x.a; b*=x.b;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st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a*x.b-b*x.a; b*=x.b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ultiplic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*=x.a; b*=x.b;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vidi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*=x.b; b*=x.a; validar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n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ublic void asign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x.a; b=x.b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ublic void asign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i=x.indexOf(“/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0){a=Integer.parseInt(x);b=1;return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a=Integer.parseInt(x.substring(0,i)); b=Integer.parseInt(x.substring(i+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valida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//métodos internos (de servic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valid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b==0) U.abortar(“denominador cero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//fin class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30360" y="519120"/>
          <a:ext cx="8362800" cy="592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19120"/>
                    <a:ext cx="836280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aiz=(-b+Math.sqrt(b*b-4*a*c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variable=expresió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luar expresión (resultado de tipo int o dou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signar resultado (salvo si variable int y exp dou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igual precedencia, evaluación de izq a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éntesis confirman o modifican orden de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operadores de distinto tipo, entonces resultado 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ici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tipo variable=expresió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onstantes simbólicas: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inal tipo var=exp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06520" y="568440"/>
          <a:ext cx="838836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68440"/>
                    <a:ext cx="838836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768320" y="3079800"/>
          <a:ext cx="5505480" cy="66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3079800"/>
                    <a:ext cx="55054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84120" y="495360"/>
          <a:ext cx="8224920" cy="5924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4120" y="495360"/>
                    <a:ext cx="8224920" cy="59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95280" y="446040"/>
          <a:ext cx="8288280" cy="733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46040"/>
                    <a:ext cx="8288280" cy="73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84120" y="457200"/>
          <a:ext cx="8373960" cy="592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57200"/>
                    <a:ext cx="83739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84120" y="322200"/>
          <a:ext cx="8361360" cy="620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322200"/>
                    <a:ext cx="8361360" cy="62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304920"/>
            <a:ext cx="800100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dicación Tare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otected String 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njun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=“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correr todos los caract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or(int i=0;i&lt;x.length();++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c=x.substring(i,i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añadir los que no est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s.indexOf(c)&lt;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+=c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so(invocació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azar(1,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e.nombre(argum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se se omite si función está en mism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piar argumentos en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jecutar 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volver valor de exp de inst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lección de 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a%4==0 &amp;&amp; a%100!=0 || a%400=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366 dias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365 dias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condición) inst1;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nst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cond es true entonces realizar inst1; si es false inst2 (op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lec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últipl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ejecutar una inst entre n opc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cond1) inst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if(cond2) inst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inst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dición(expresión boole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. Operador ! (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 Expresiones aritmé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 Operadores comparación (&lt;, &lt;=,&gt;,&gt;=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 Operadores de igualdad (==, !=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. Operador &amp;&amp; (true si ambos 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 Operador || (true si alguno 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ipo 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oolean b=false;//variable, cte y 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=bisiesto(2006);//invocación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b) dias=366; else dias=365; //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oolean bisiesto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==0 &amp;&amp; x%100!=0 || x%400=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20840" y="606600"/>
          <a:ext cx="828828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606600"/>
                    <a:ext cx="828828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cur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double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==0&amp;&amp;y==0) U.abortar(“potencia(0,0)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y==0) return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0) return 1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,-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ouble p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,y/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y%2==0) return p*p; else return x*p*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 menos un caso base que devuelve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lamadas recursivas convergen a 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peradore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signac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resultado: valor asign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s,n,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0; //s=(n=(c=0)); asoc der a iz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readInt())!=0) //menor prio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promedio=“+(s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+n)/(c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+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signación aritm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promedio=“+(s+=n)/(c+=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cremento y decre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+var --var (var++ y var--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vuelven valor prev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xpresión con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 =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gt;b ? a : b;//cond? exp1: ex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f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int x){return x==0? 1: x*fact(x-1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struccione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i=1; 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=n; ++i){...}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or(inst1;cond;inst2){insrucciones}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inst1; while(co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){...; inst2;}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C.readInt()%10){//para int y 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case 0: C.print(“cero”); break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case 8: C.print(“ocho”); 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efault: C.print(“nueve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oma el mismo tiempo elegir cualquier c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op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 String enPalabras(int x) //x: entero positivo de dos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j: enPalabras(78) entrega “setenta y och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06-04-26T19:01:23Z</dcterms:modified>
  <cp:revision>19</cp:revision>
  <dc:subject/>
  <dc:title>Diapositiva 1</dc:title>
</cp:coreProperties>
</file>