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4C25-60A0-4CA4-94F8-A6FE3EFF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5293-EE25-407D-9FBE-8469F9A1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75ED-5A3A-44B2-B63C-FA4B8435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28D-A034-4FAA-BC9D-BF879292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A7D3-7ADC-4152-AC68-44E487BF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88D8-7D15-4299-859F-6546259D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43E-C3F1-4440-9DC5-36C3DBFE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613-A42E-4C9B-BA02-47B63191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8FB0-BAD9-4618-A171-E5B02665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826-D79D-4238-9214-FD81B75B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F165-639C-484D-AFA0-920EB7C5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8813-0C2F-4520-9C44-4539223D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7D79-046F-4BB1-A58C-42650E90A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35080" y="322200"/>
          <a:ext cx="8634240" cy="627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5080" y="322200"/>
                    <a:ext cx="8634240" cy="627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30360" y="531720"/>
          <a:ext cx="835020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31720"/>
                    <a:ext cx="83502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String: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emplazar todos los x por y en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,String y,String z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z.indexOf(x); if(i&lt;0)return 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.substring(0,i)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empl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,y,z.substring(i+x.length(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una respuesta “si” o “n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r=U.leerString(x+” si o no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trim().toLowerCa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r.equals(“si”)||r.equals(“no”))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 :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N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piar arch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ufferedReader I=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Reader(U.leerString(“input?”)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Writer O=new PrintWrit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FileWriter(U.leerString(“output?”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lin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linea=I.readLine())!= nu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println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.clos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.close(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eclado y Pantalla (Conso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ufferedReader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eclad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BufferedReader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ew InputStreamReader(System.in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String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String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ystem.out.print(x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eclado.readLin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leerInt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Integer.parseInt(leerString(x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so de objetos de una cl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Fracción más lejana (del promedi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f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, s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min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max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, cero=new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while(!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cero)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); ++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ax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gt;0) 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f(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min)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&lt;0) min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asigna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f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.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asigna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U.leerString(“nº/nº?”)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dividir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new F(n)); //promed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System.out.println(“más lejana=“+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ax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compareT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s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rest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min))&gt;0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max : min).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to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Arial"/>
              </a:rPr>
              <a:t>() 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lase Fraccion (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 //en archivo F.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presentacion: datos de u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vate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,b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onstructores: inicializan ob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//”canónic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x; b=y; 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a=0; b=1;}//default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//copy 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 b=1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asignar(x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){...}//si x=4.5,a=45yb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unciones públicas: un resultado (no modifican obje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selección, conversión y compar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String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String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+”/”+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In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toDoub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(double)a/b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==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compareT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a*x.b-b*x.a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//operado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imple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int m=U.mcd(a,b); return new F(a/m,b/m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inverso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){return new F(b,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sum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+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resta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-b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mult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a,b*x.b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F </a:t>
            </a:r>
            <a:r>
              <a:rPr b="1" lang="es-ES" sz="2200" spc="-1" strike="noStrike">
                <a:solidFill>
                  <a:srgbClr val="000000"/>
                </a:solidFill>
                <a:latin typeface="Courier New"/>
              </a:rPr>
              <a:t>div</a:t>
            </a:r>
            <a:r>
              <a:rPr b="0" lang="es-ES" sz="2200" spc="-1" strike="noStrike">
                <a:solidFill>
                  <a:srgbClr val="000000"/>
                </a:solidFill>
                <a:latin typeface="Courier New"/>
              </a:rPr>
              <a:t>(F x){return new F(a*x.b,b*x.a);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cedimientos (public void): modifican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modific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numer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a=x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enominad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){b=x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u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implif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m=U.mcd(a,b);a/=m;b/=m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nvert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){int t=a; a=b; b=t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peradores bi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sum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+b*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rest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a*x.b-b*x.a; b*=x.b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multiplic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a; b*=x.b;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vidi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*=x.b; b*=x.a; validar(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nt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F x){a=x.a; b=x.b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ublic void asign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i=x.indexOf(“/”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{a=Integer.parseInt(x);b=1;return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a=Integer.parseInt(x.substring(0,i)); b=Integer.parseInt(x.substring(i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//métodos internos (de servic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valid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b==0) U.abortar(“denominador cer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//fin class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630360" y="519120"/>
          <a:ext cx="836280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19120"/>
                    <a:ext cx="836280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(-b+Math.sqrt(b*b-4*a*c))/(2*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variable=expresió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r expresión (resultado de tipo int o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ignar resultado (salvo si variable int y exp dou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igual precedencia, evaluación de izq a 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aréntesis confirman o modifican orden de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operadores de distinto tipo, entonces resultado dou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ici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tipo variable=expresión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constantes simbólicas: </a:t>
            </a:r>
            <a:r>
              <a:rPr b="0" lang="es-CL" sz="2200" spc="-1" strike="noStrike">
                <a:solidFill>
                  <a:srgbClr val="000000"/>
                </a:solidFill>
                <a:latin typeface="Courier New"/>
              </a:rPr>
              <a:t>final tipo var=expr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06520" y="568440"/>
          <a:ext cx="83883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68440"/>
                    <a:ext cx="83883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1768320" y="3079800"/>
          <a:ext cx="5505480" cy="66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3079800"/>
                    <a:ext cx="5505480" cy="66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384120" y="495360"/>
          <a:ext cx="8224920" cy="5924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4120" y="495360"/>
                    <a:ext cx="8224920" cy="592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395280" y="446040"/>
          <a:ext cx="8288280" cy="7334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446040"/>
                    <a:ext cx="8288280" cy="733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4120" y="457200"/>
          <a:ext cx="8373960" cy="5925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457200"/>
                    <a:ext cx="83739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84120" y="322200"/>
          <a:ext cx="836136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22200"/>
                    <a:ext cx="836136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38080" y="304920"/>
            <a:ext cx="8001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dicación Tare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otected String 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onjun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String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=“”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recorrer todos los carac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t i=0;i&lt;x.length();++i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ring c=x.substring(i,i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añadir los que no est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s.indexOf(c)&lt;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=c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un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Uso(invocació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azar(1,6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e.nombre(argum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lase se omite si función está en misma cl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piar argumentos en paráme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jecutar 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volver valor de exp de inst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lección de 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a%4==0 &amp;&amp; a%100!=0 || a%400==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6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365 dias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condición) inst1;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cond es true entonces realizar inst1; si es false inst2 (op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lección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últip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(ejecutar una inst entre n op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cond1) inst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f(cond2) inst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inst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dición(expresión boole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0. Operador ! (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 Expresiones aritmé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Operadores comparación (&lt;, &lt;=,&gt;,&gt;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Operadores de igualdad (==, !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 Operador &amp;&amp; (true si ambos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. Operador || (true si alguno tr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ipo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oolean b=false;//variable, cte y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=bisiesto(2006);//invocación fu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b) dias=366; else dias=365; //u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boolean bisiesto(int x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&amp;&amp; x%100!=0 || x%400=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20840" y="606600"/>
          <a:ext cx="8288280" cy="573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606600"/>
                    <a:ext cx="828828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ur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potencia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double x,int y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x==0&amp;&amp;y==0) U.abortar(“potencia(0,0)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==0)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y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0) return 1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-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ouble p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otenci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x,y/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(y%2==0) return p*p; else return x*p*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 menos un caso base que devuelv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lamadas recursivas convergen a 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Operador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resultado: valor asigna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ns,n,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0; //s=(n=(c=0)); asoc der a iz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while((n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readInt())!=0) //menor prior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+n)/(c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+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asignación aritmét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.println(“promedio=“+(s+=n)/(c+=1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cremento y decr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+var --var (var++ y var--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devuelven valor prev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xpresión con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 =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gt;b ? a : b;//cond? exp1: ex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f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int x){return x==0? 1: x*fact(x-1);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strucciones espe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nt i=1; i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&lt;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=n; ++i){...}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for(inst1;cond;inst2){insrucciones}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inst1; while(co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){...; inst2;}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(C.readInt()%10){//para int y ch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0: C.print(“cero”); brea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case 8: C.print(“ocho”); 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ault: C.print(“nueve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oma el mismo tiempo elegir cualquier ca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. String enPalabras(int x) //x: entero positivo de dos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j: enPalabras(78) entrega “setenta y och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06-04-26T19:01:23Z</dcterms:modified>
  <cp:revision>19</cp:revision>
  <dc:subject/>
  <dc:title>Diapositiva 1</dc:title>
</cp:coreProperties>
</file>