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ABB-DC3E-4962-95C3-68D927B6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CD0-20C8-4D0C-818B-7DFAB43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CFE-57EF-4DE9-B2AB-8EE49BC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C03-180D-4D67-8644-B302AFFA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545-8AAD-4AED-80B9-3D48FEB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BAD-B693-4920-A5EE-881DF569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D0C-86D1-4B53-8E20-2EECD6B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2B8-CF3C-40A7-ACA5-9313F8A5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BFA-CCF4-42B4-9F64-7D0829C9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58F-08A1-400A-BD2D-1A7ECCC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A7E-F6C7-458E-90B6-5CBE214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2E1-ED21-467B-A400-9F0DC3D3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C6C-57EE-4E56-9C71-02736A7EC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220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220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43624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436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6-03-17T18:22:49Z</dcterms:modified>
  <cp:revision>10</cp:revision>
  <dc:subject/>
  <dc:title>Sin título de diapositiva</dc:title>
</cp:coreProperties>
</file>