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BDF-4EE3-470D-BD58-E9F23285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58D-AB73-4E06-9382-8F19B45D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76C-5A2C-4971-ABA0-CE3A35E9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3C5-0EAB-4CB5-85E3-FEB52379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024-8493-462D-BA4A-EA18F877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5C3-5D56-484E-BF36-26EAD42C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2B8-44E8-43BF-8F00-749A8CFE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97B-01C6-40D8-A563-ED68AC78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A90-7933-4A08-A3BB-88FE8744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8F8-E722-4EBF-870E-6CFF9DC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9B6-2164-45A5-A2AC-95ED88E7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112-5C99-4E37-8038-11BDB33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3D10-8030-4A0F-9C75-112886A69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2120" y="506520"/>
          <a:ext cx="862200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06520"/>
                    <a:ext cx="862200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1720" y="457200"/>
          <a:ext cx="843624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43624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557280"/>
          <a:ext cx="8547120" cy="76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57280"/>
                    <a:ext cx="854712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38320" y="457200"/>
          <a:ext cx="737244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57200"/>
                    <a:ext cx="73724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6-03-17T18:22:49Z</dcterms:modified>
  <cp:revision>10</cp:revision>
  <dc:subject/>
  <dc:title>Sin título de diapositiva</dc:title>
</cp:coreProperties>
</file>